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D572415-1543-480D-A6A5-19309A8A8E0D}" type="doc">
      <dgm:prSet loTypeId="urn:microsoft.com/office/officeart/2005/8/layout/funnel1" loCatId="process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en-SG"/>
        </a:p>
      </dgm:t>
    </dgm:pt>
    <dgm:pt modelId="{EEB7130B-CF67-43BD-9BA5-BC0810802DD3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اص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F3BA826-7A0A-448F-9100-4405E4B4DBCE}" type="par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F90F371E-53FE-4FD8-9F0A-4232E191DE95}" type="sib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249E04F8-C3B8-4E2D-9C49-A64FBE70EDED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تکمی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2E8FE2-BB01-4AAA-AF9A-1A3602D02704}" type="par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16BD8BB-7752-4672-8B8D-62DC0595A7DA}" type="sib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AA16E9-D2FE-4752-9BAB-366051CC16FD}">
      <dgm:prSet phldrT="[Text]" custT="1"/>
      <dgm:spPr/>
      <dgm:t>
        <a:bodyPr/>
        <a:lstStyle/>
        <a:p>
          <a:pPr marL="0" marR="0" lvl="0" indent="0" algn="ctr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r>
            <a:rPr lang="fa-IR" sz="2800" b="1" smtClean="0">
              <a:solidFill>
                <a:schemeClr val="tx1"/>
              </a:solidFill>
              <a:cs typeface="B Nazanin" panose="00000400000000000000" pitchFamily="2" charset="-78"/>
            </a:rPr>
            <a:t>محتویات کیف</a:t>
          </a:r>
        </a:p>
        <a:p>
          <a:pPr lvl="0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01414706-E5F1-43FE-9F31-3E23016D458A}" type="sib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1B6D747-FCD4-44FB-A4BB-BD6045973B12}" type="par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5C3729F-71C6-4F62-A637-8A5DAEA5D86D}" type="pres">
      <dgm:prSet presAssocID="{1D572415-1543-480D-A6A5-19309A8A8E0D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1E2A69D0-05A0-4D3E-BBE5-C72CBFDE966E}" type="pres">
      <dgm:prSet presAssocID="{1D572415-1543-480D-A6A5-19309A8A8E0D}" presName="ellipse" presStyleLbl="trBgShp" presStyleIdx="0" presStyleCnt="1"/>
      <dgm:spPr/>
    </dgm:pt>
    <dgm:pt modelId="{AEBC9CB9-2A08-43B8-8BA5-E70143690A38}" type="pres">
      <dgm:prSet presAssocID="{1D572415-1543-480D-A6A5-19309A8A8E0D}" presName="arrow1" presStyleLbl="fgShp" presStyleIdx="0" presStyleCnt="1"/>
      <dgm:spPr/>
    </dgm:pt>
    <dgm:pt modelId="{034C8D08-D90F-4D1A-8A95-407915CEFCBF}" type="pres">
      <dgm:prSet presAssocID="{1D572415-1543-480D-A6A5-19309A8A8E0D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137A061-FA6F-4E60-BE8F-411187B36BD3}" type="pres">
      <dgm:prSet presAssocID="{249E04F8-C3B8-4E2D-9C49-A64FBE70EDED}" presName="item1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7FF2573-11A8-4935-80BB-AD4FF4B0BB89}" type="pres">
      <dgm:prSet presAssocID="{B4AA16E9-D2FE-4752-9BAB-366051CC16FD}" presName="item2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5C609B2-7576-4D50-8FCD-8F6F93E8E4B6}" type="pres">
      <dgm:prSet presAssocID="{1D572415-1543-480D-A6A5-19309A8A8E0D}" presName="funnel" presStyleLbl="trAlignAcc1" presStyleIdx="0" presStyleCnt="1"/>
      <dgm:spPr/>
    </dgm:pt>
  </dgm:ptLst>
  <dgm:cxnLst>
    <dgm:cxn modelId="{F0C7B147-98D7-42C5-BE27-F9416B717F41}" srcId="{1D572415-1543-480D-A6A5-19309A8A8E0D}" destId="{B4AA16E9-D2FE-4752-9BAB-366051CC16FD}" srcOrd="2" destOrd="0" parTransId="{81B6D747-FCD4-44FB-A4BB-BD6045973B12}" sibTransId="{01414706-E5F1-43FE-9F31-3E23016D458A}"/>
    <dgm:cxn modelId="{D0223927-3F97-4A25-8794-0C7E236C1398}" srcId="{1D572415-1543-480D-A6A5-19309A8A8E0D}" destId="{249E04F8-C3B8-4E2D-9C49-A64FBE70EDED}" srcOrd="1" destOrd="0" parTransId="{B42E8FE2-BB01-4AAA-AF9A-1A3602D02704}" sibTransId="{416BD8BB-7752-4672-8B8D-62DC0595A7DA}"/>
    <dgm:cxn modelId="{9DCB18EC-821A-4558-ADDA-03593FBBD574}" type="presOf" srcId="{1D572415-1543-480D-A6A5-19309A8A8E0D}" destId="{45C3729F-71C6-4F62-A637-8A5DAEA5D86D}" srcOrd="0" destOrd="0" presId="urn:microsoft.com/office/officeart/2005/8/layout/funnel1"/>
    <dgm:cxn modelId="{6EC79895-CF7E-40B7-BA0C-6D0385DCF650}" type="presOf" srcId="{B4AA16E9-D2FE-4752-9BAB-366051CC16FD}" destId="{034C8D08-D90F-4D1A-8A95-407915CEFCBF}" srcOrd="0" destOrd="0" presId="urn:microsoft.com/office/officeart/2005/8/layout/funnel1"/>
    <dgm:cxn modelId="{23AC0726-02A7-4BA8-9371-E403BB666839}" type="presOf" srcId="{EEB7130B-CF67-43BD-9BA5-BC0810802DD3}" destId="{07FF2573-11A8-4935-80BB-AD4FF4B0BB89}" srcOrd="0" destOrd="0" presId="urn:microsoft.com/office/officeart/2005/8/layout/funnel1"/>
    <dgm:cxn modelId="{BF98ADFB-39CD-4423-83C8-9B7884CF12A3}" srcId="{1D572415-1543-480D-A6A5-19309A8A8E0D}" destId="{EEB7130B-CF67-43BD-9BA5-BC0810802DD3}" srcOrd="0" destOrd="0" parTransId="{8F3BA826-7A0A-448F-9100-4405E4B4DBCE}" sibTransId="{F90F371E-53FE-4FD8-9F0A-4232E191DE95}"/>
    <dgm:cxn modelId="{1A620D64-5B3C-4D85-A24A-C5972BF2964F}" type="presOf" srcId="{249E04F8-C3B8-4E2D-9C49-A64FBE70EDED}" destId="{9137A061-FA6F-4E60-BE8F-411187B36BD3}" srcOrd="0" destOrd="0" presId="urn:microsoft.com/office/officeart/2005/8/layout/funnel1"/>
    <dgm:cxn modelId="{DD3C1308-7B4D-419B-927F-BA84364C83DB}" type="presParOf" srcId="{45C3729F-71C6-4F62-A637-8A5DAEA5D86D}" destId="{1E2A69D0-05A0-4D3E-BBE5-C72CBFDE966E}" srcOrd="0" destOrd="0" presId="urn:microsoft.com/office/officeart/2005/8/layout/funnel1"/>
    <dgm:cxn modelId="{ABB1F97B-E0E5-41DC-9214-0C55FB87BCD8}" type="presParOf" srcId="{45C3729F-71C6-4F62-A637-8A5DAEA5D86D}" destId="{AEBC9CB9-2A08-43B8-8BA5-E70143690A38}" srcOrd="1" destOrd="0" presId="urn:microsoft.com/office/officeart/2005/8/layout/funnel1"/>
    <dgm:cxn modelId="{2C537C87-B641-4389-B4F9-CC79C6D9CFD7}" type="presParOf" srcId="{45C3729F-71C6-4F62-A637-8A5DAEA5D86D}" destId="{034C8D08-D90F-4D1A-8A95-407915CEFCBF}" srcOrd="2" destOrd="0" presId="urn:microsoft.com/office/officeart/2005/8/layout/funnel1"/>
    <dgm:cxn modelId="{426ED9CF-4C0D-4CEB-A016-0FA0AF17BD1C}" type="presParOf" srcId="{45C3729F-71C6-4F62-A637-8A5DAEA5D86D}" destId="{9137A061-FA6F-4E60-BE8F-411187B36BD3}" srcOrd="3" destOrd="0" presId="urn:microsoft.com/office/officeart/2005/8/layout/funnel1"/>
    <dgm:cxn modelId="{613C91DF-5A86-4124-BF69-823911CC1923}" type="presParOf" srcId="{45C3729F-71C6-4F62-A637-8A5DAEA5D86D}" destId="{07FF2573-11A8-4935-80BB-AD4FF4B0BB89}" srcOrd="4" destOrd="0" presId="urn:microsoft.com/office/officeart/2005/8/layout/funnel1"/>
    <dgm:cxn modelId="{D823CE8B-D787-4EA9-8544-78FCD5989358}" type="presParOf" srcId="{45C3729F-71C6-4F62-A637-8A5DAEA5D86D}" destId="{85C609B2-7576-4D50-8FCD-8F6F93E8E4B6}" srcOrd="5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16EA-70E0-4BF2-A09B-A21B55965D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5904B-A02F-4706-8FE2-1B8149A2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0621-A9D3-47A8-B8FD-E83266C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76D5-B439-4E23-B714-242557E009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5C12F-9841-43E8-BE9B-524239CE8B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958C5-5B51-4F5E-8BD8-93C9F75AB8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8C474-9F65-4677-B258-6E30000D8C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19384-83FA-4480-A1F0-D9AE318CC9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41BD0-2D8D-4086-AE04-489254AB7E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4A8FD-6F25-4EA8-B18E-5F310BB3C9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DA696-E9DF-4B41-93F1-4D20B23229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F4F3-3B5C-41D0-A014-E1460154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84062-33DB-42CB-8A9F-F11F085259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311FF-58B4-4E10-B706-F5D73F7221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17DF5-A2E6-4BF8-87B9-4ABDB75A29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D4DAF-2A13-4586-A738-A28951BD93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E68DB-773B-4152-AA68-C6F348E0A1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C0AC0B-AECD-482C-BC19-CB1DA6EB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C571C0-2839-43C1-80EC-FFC77263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42E6E7-22C2-4491-9088-0A660862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8E0F8C-6A3C-4C8F-B148-7D562960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2ADF09-203C-4DB1-83BF-4017B6AE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0EE5-2EFC-4A35-BEC5-D08F6281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0D1481-FC57-43E2-A65B-D325D595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3799EC-8E82-4797-8A30-A879CB5A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9AF37A-7ECD-415B-9E16-4F90E46B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DBCAC-A7B7-4E86-ADFB-6435621E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D4AB1-59E3-49E5-930C-FD7945ED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44DC9D-CB89-480B-84E2-260BCA2B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0D4E8C-3A52-43C7-BEB6-433EC09F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4B4B-F46E-4DB6-A6EC-02F8A7AA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0B862-FCED-40B7-9DFE-BE89B983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5CD5-B057-4477-9566-14F63699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915E-23E0-44BF-9915-281E34A4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D5B0-FCA3-427E-8380-0D21B88C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0256F-46E8-49ED-AD2D-24A42C20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797899-3713-4951-8614-8D9230C301A6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Footer Placeholder 4"/>
          <p:cNvSpPr/>
          <p:nvPr/>
        </p:nvSpPr>
        <p:spPr>
          <a:xfrm>
            <a:off x="3844440" y="6629400"/>
            <a:ext cx="4822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2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3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63E698-0777-4211-93AF-2AFD93C9FF11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7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8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56D4B8-1581-42B5-A8A1-543CE41BBEC0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کیف نجات خانواد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B6CA-3BEE-41B7-9259-AACCEE4EA6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شرایط نگهداری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جای خشک و خنک: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1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ا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0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درج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زدیک مسیر خروج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خودرو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در پوشش ضد آب باش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ک کردن کیف در زمانهای منظم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Image result for Emergency family kit in car"/>
          <p:cNvPicPr/>
          <p:nvPr/>
        </p:nvPicPr>
        <p:blipFill>
          <a:blip r:embed="rId1"/>
          <a:stretch/>
        </p:blipFill>
        <p:spPr>
          <a:xfrm>
            <a:off x="335520" y="2205000"/>
            <a:ext cx="4874040" cy="325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C271C-AF25-4392-AB44-F049F98C83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2303640" y="1766520"/>
            <a:ext cx="7670520" cy="4314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EDFC8-5B6B-4A04-9539-3302C2BC42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9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0562B-BEE6-41E9-AB27-18FD5DB349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نحوه تهیه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هیه چک لیستی از وسایل مورد نیاز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ماده کردن وسایل مطابق با لیست تهیه شد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سته بندی همه وسایل و جاگذاری در کیف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قابل شستشو و قابل حمل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rcRect l="-265" t="0" r="0" b="0"/>
          <a:stretch/>
        </p:blipFill>
        <p:spPr>
          <a:xfrm>
            <a:off x="638280" y="1805040"/>
            <a:ext cx="4196160" cy="418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B3C61-5B35-49E1-A510-3D8D8F36DA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180594441"/>
              </p:ext>
            </p:extLst>
          </p:nvPr>
        </p:nvGraphicFramePr>
        <p:xfrm>
          <a:off x="1557360" y="223920"/>
          <a:ext cx="8966520" cy="6565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55" name="Picture 5" descr=""/>
          <p:cNvPicPr/>
          <p:nvPr/>
        </p:nvPicPr>
        <p:blipFill>
          <a:blip r:embed="rId5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78A00-2EC6-4CD5-971A-45F44461AB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3360" y="1196640"/>
            <a:ext cx="718488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ب برای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به ازای هر فرد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7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لیتر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غذا غیر فاسدشدنی  برای حداقل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: کنسرو، نان خشک و  بیسکویت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عبه کمکهای اولی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ادیو و باتر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686880" y="4094280"/>
            <a:ext cx="3198600" cy="2228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686880" y="1535040"/>
            <a:ext cx="3198600" cy="24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3A8D9-599A-4E22-9990-865A813FC5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9520" y="1380600"/>
            <a:ext cx="11088720" cy="5091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8360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راغ قو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وت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لفن همراه با شارژر و باتری پشتیبان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سک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در مسافرتی یا مشمع و نوار چس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ب بازکن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قشه های محل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886680" y="1671120"/>
            <a:ext cx="3264120" cy="451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F8414-EF2E-4A6D-98F7-E7ACAD4991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 شخصی:صابون، ضد عفونی کننده دست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ی مورد نیاز بانوان، کودکان و سالمندان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داروهای بدون نسخه: مسکن، ضد تهوع و اسهال، داروهای ضداسید معده، پمادهای موضعی و ...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کیسه خواب یا پتو گرم برای هر شخص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425880" y="1759680"/>
            <a:ext cx="2854080" cy="22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A38E3-3ABC-4E4A-9A58-32794BA732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لباس متناسب با آب و هوا و کفشهای محکم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مهم: کپی بیمه نامه ها ، شناسنامه و سوابق حساب بانکی و ... 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پسول آتش نشانی کوچک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باب بازی و سرگرمی برای گودکان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تاب های مورد علاقه : ادعیه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1079280" y="3815280"/>
            <a:ext cx="2878560" cy="22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66FCC-A2DC-4F6C-9FCF-53EDF903BB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ubtitle 1"/>
          <p:cNvSpPr/>
          <p:nvPr/>
        </p:nvSpPr>
        <p:spPr>
          <a:xfrm>
            <a:off x="2882880" y="1533960"/>
            <a:ext cx="907056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2000"/>
          </a:bodyPr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77" strike="noStrike">
                <a:solidFill>
                  <a:srgbClr val="000000"/>
                </a:solidFill>
                <a:latin typeface="Calibri"/>
                <a:cs typeface="B Nazanin"/>
              </a:rPr>
              <a:t>تجهیزات کنترل قند خو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سولی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رن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وم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وار تست ق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اگ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یخ خش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نبه الکل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343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Image result for ‫ویال گلوکاگون‬‎"/>
          <p:cNvPicPr/>
          <p:nvPr/>
        </p:nvPicPr>
        <p:blipFill>
          <a:blip r:embed="rId1"/>
          <a:stretch/>
        </p:blipFill>
        <p:spPr>
          <a:xfrm>
            <a:off x="893520" y="4435560"/>
            <a:ext cx="3860280" cy="198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Image result for ‫دستگاه گلوکومتر‬‎"/>
          <p:cNvPicPr/>
          <p:nvPr/>
        </p:nvPicPr>
        <p:blipFill>
          <a:blip r:embed="rId2"/>
          <a:stretch/>
        </p:blipFill>
        <p:spPr>
          <a:xfrm>
            <a:off x="1079280" y="1886760"/>
            <a:ext cx="2995920" cy="196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FD9B8-89D8-45B3-9D2C-9DDDD25708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580</TotalTime>
  <Application>LibreOffice/7.4.7.2$Linux_X86_64 LibreOffice_project/40$Build-2</Application>
  <AppVersion>15.0000</AppVersion>
  <Words>267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01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1</vt:r8>
  </property>
</Properties>
</file>