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D89EF-1AF0-4742-B55E-DEA11326A5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D38B5-FE1C-48AC-AFB6-112BAEA9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86CEA-74C5-4BF6-B116-881F09FF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1B24C-8355-4A61-A5FB-7529BE8FE1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FF205-AE52-48D4-8EBE-32CD1E7E76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AE277-6139-4F2F-B0C6-8035D460D0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6F3B8-6731-4EF8-AC63-40115165B4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D2F0F-07E6-4ACA-AADC-4D66610D42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01DDC-97CE-4A02-A53B-91B26FDE6D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57740-90D2-4148-86A0-B1C76E78C6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A711D-42D2-4312-BFC5-463382E0E3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B6504-C1DE-44A9-A748-D1DA504B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F0A66-183B-4AE1-BBC7-123B348A02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911AB-1A19-4B38-A2CD-FAB009C4AB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F75E3-9042-4F0E-92B5-FDBCE9D069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B34C4-C9E2-42B3-9B65-839EC043C0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0C2DC-D32D-4E7E-8DF3-AF10A16183E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05AD-FC84-4F6A-9017-E5ACCDB7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A74C-DA20-4C08-B3F0-E979483B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DAD8-5286-47BF-B391-40D2169D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872A-1D6A-40C1-94B5-008B3DBE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48A9-9C12-46E2-843B-4AF9A1AA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E69FA-9436-4322-8BF3-17208F50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AC0A-FA1E-4F2D-8FE7-99C9F038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EEBA-5BD0-4FC2-B5B4-B791C087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37A4-A4AA-4FF1-B6CB-C22AAE2E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BEE5-9767-410B-84A2-58350E7C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05B6-73CF-4F1A-A6D5-ABD03197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9203-F68C-4CCE-8438-DD9952FA6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6807-9E5A-4FA2-9BDD-FA2C9213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E6DDAC-6F55-46EB-8ED3-7AC77C37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122997-0CCB-428B-A736-CA71D6C1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CFAF2C-D136-4359-AF00-3A445EED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266EC-18B8-4932-B449-F7B0CFED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5E6A4B-5DC5-4D10-8D16-B44AE98B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49F4BA-9677-4581-9275-500DFA03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A9ADA1-2F48-420F-B001-58325E04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84A527-2AFF-463A-9BB3-DD4ABB38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2FE64D-03CA-41C4-BFF9-85F4DADB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1BDD8A-BFC6-4C1E-B2A7-3CC51D68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16E607-1AAB-4F6D-88DB-4FA14252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F548D9-6902-491E-8563-43595FE9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FC69D4-CB4A-48D7-8F2B-9C3CE89E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2A462-AE08-4362-B926-13ECC8F9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2334B-FFFC-4C1D-96D4-8B0347F6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82BA1-F120-45DF-ADD4-D2CCBAB4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55161-637C-4481-9C9D-5EB03346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F5D04-F350-4372-AB0B-FCA311AA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75AF7C-C589-4D59-8539-52DAC3CF3263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1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72E176-0866-453D-8D82-69C578F2BB98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6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7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6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C83BF1-FAD4-4000-B8BB-C1D6319C3C86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3"/>
          <a:stretch/>
        </p:blipFill>
        <p:spPr>
          <a:xfrm>
            <a:off x="10932120" y="4716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14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14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dt" idx="8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ftr" idx="9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0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55C944-AC9E-41B5-B5B1-05314E13A993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fa-IR" sz="4400" spc="-52" strike="noStrike">
                <a:solidFill>
                  <a:srgbClr val="1a2884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91" name="PlaceHolder 3"/>
          <p:cNvSpPr>
            <a:spLocks noGrp="1"/>
          </p:cNvSpPr>
          <p:nvPr>
            <p:ph type="ftr" idx="11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8181B-5E10-413C-85B1-AA128D4C86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95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45399-BC7E-494C-B1BC-110AAAC2B3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42960" y="1141920"/>
            <a:ext cx="1079532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اتومبيل‌ خود را در محلي‌ امن‌ و كاملاً بافاصله‌ نسبت‌ به‌ محل‌ حادثه‌ پارك‌ كني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چراغ‌هاي‌ خطر آن‌ را به‌ حالت‌ چشمك‌زن‌ قرار ده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به‌یک‌باره از خودرو پیاده و  وارد جاده نشوی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عرض خیابان ندو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شب‌، لباسي‌ بپوشيد يا چيزي‌ حمل‌ كنيد كه‌ روشن‌ يا منعكس‌كننده‌ نور باشد یا از چراغ‌قوه‌ استفاده‌ كن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1B12-D525-45C0-8133-9C78F9707A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914400" y="1525680"/>
            <a:ext cx="1073664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حداقل‌ به‌ فاصله‌ 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۴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متر از محل‌ حادثه‌ در هر دو طرف‌ آن‌، مثلث‌ يا چراغ‌ هشداردهنده‌ قرار ده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بلافاصله با مرکز فوریت پلیس و اورژانس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تماس بگیر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تماس با اورژانس تعداد مصدومان را اعلام کن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به‌سرعت‌ تمام‌ مصدومان‌ را ارزيابي‌ كني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اگر بيش‌ از يك‌ مصدوم‌ وجود دارد، ابتدا به‌ آن‌هایی‌ كه‌ ممكن‌ است‌ آسيب‌هاي‌ تهديدكننده‌ حيات‌ (مثل‌ سوختگي‌ يا زخم‌ شديد) داشته‌ باشند، رسيدگي‌ كن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605880" y="2600280"/>
            <a:ext cx="3236400" cy="20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40FE-B9AF-402F-9792-06986C30F2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493200" y="1973880"/>
            <a:ext cx="1097244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مصدوم‌ را حركت‌ ندهيد مگر وقتی‌که‌ قطعاً ضرورت‌ داشته‌ باش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صورت‌ امكان‌، مصدومان‌ را در همان‌ وضعيتي‌ كه‌ با آن‌ها مواجه‌ شديد، درمان‌ كن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تنها درصورتی‌که‌ مصدومي‌ درخطر باشد يا به‌منظور ارائه‌ درمان‌ نجات‌بخش‌، مي‌توانيد وي‌ را جابه‌جا كني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043A-618C-4E97-A7E8-B0891F3030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932040" y="1696680"/>
            <a:ext cx="107010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2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Nazanin"/>
              </a:rPr>
              <a:t>در مورد هر مصدومي‌ كه‌ در حوادث‌ رانندگي‌ آسیب‌دیده‌ است‌، هميشه‌ فرض‌ كنيد كه‌ آسيب‌ گردن‌ (نخاع‌) وجود دارد و سر مصدوم‌ را تا رسيدن‌ نيروهاي‌ كمكي‌، با دست‌ نگه‌داری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Nazanin"/>
              </a:rPr>
              <a:t>محل‌ را به‌طور كامل‌ جستجو كنيد تا از مصدوماني‌ كه‌ به‌ مناطق‌ دورتر پرتاب‌شده‌اند يا از آن‌هایی‌ كه‌ به‌ خاطر منگي‌، بي‌هدف‌ حركت‌ كرده‌ و از محل‌ دور شده‌اند، غفلت‌ نكرده‌ باشي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B8C6-43B2-4AA4-AE60-1B0DAAEF83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ftr" idx="12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fa-IR" sz="1400" spc="-1" strike="noStrike" cap="all">
                <a:solidFill>
                  <a:srgbClr val="ffffff"/>
                </a:solidFill>
                <a:latin typeface="Calibri"/>
                <a:cs typeface="B Nazani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fa-IR" sz="1400" spc="-1" strike="noStrike" cap="all">
                <a:solidFill>
                  <a:srgbClr val="ffffff"/>
                </a:solidFill>
                <a:latin typeface="Calibri"/>
                <a:cs typeface="B Nazanin"/>
              </a:rPr>
              <a:t>کارگاه آمادگی در برابر زلزله ( فرد – خانواده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SG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83CD2E-A9F0-4B26-A960-F203D04CC2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pic>
        <p:nvPicPr>
          <p:cNvPr id="210" name="Content Placeholder 7" descr=""/>
          <p:cNvPicPr/>
          <p:nvPr/>
        </p:nvPicPr>
        <p:blipFill>
          <a:blip r:embed="rId2"/>
          <a:stretch/>
        </p:blipFill>
        <p:spPr>
          <a:xfrm>
            <a:off x="2978640" y="1772280"/>
            <a:ext cx="6473520" cy="43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9206A-3D24-461E-A479-66C1563A04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656</TotalTime>
  <Application>LibreOffice/7.4.7.2$Linux_X86_64 LibreOffice_project/40$Build-2</Application>
  <AppVersion>15.0000</AppVersion>
  <Words>46</Words>
  <Paragraphs>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4:16Z</dcterms:modified>
  <cp:revision>1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8</vt:r8>
  </property>
</Properties>
</file>