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D572415-1543-480D-A6A5-19309A8A8E0D}" type="doc">
      <dgm:prSet loTypeId="urn:microsoft.com/office/officeart/2005/8/layout/funnel1" loCatId="process" qsTypeId="urn:microsoft.com/office/officeart/2005/8/quickstyle/simple1" qsCatId="simple" csTypeId="urn:microsoft.com/office/officeart/2005/8/colors/colorful2" csCatId="colorful" phldr="1"/>
      <dgm:spPr/>
      <dgm:t>
        <a:bodyPr/>
        <a:lstStyle/>
        <a:p>
          <a:endParaRPr lang="en-SG"/>
        </a:p>
      </dgm:t>
    </dgm:pt>
    <dgm:pt modelId="{EEB7130B-CF67-43BD-9BA5-BC0810802DD3}">
      <dgm:prSet phldrT="[Text]" custT="1"/>
      <dgm:spPr/>
      <dgm:t>
        <a:bodyPr/>
        <a:lstStyle/>
        <a:p>
          <a:r>
            <a:rPr lang="fa-IR" sz="2800" b="1" dirty="0" smtClean="0">
              <a:solidFill>
                <a:schemeClr val="tx1"/>
              </a:solidFill>
              <a:cs typeface="B Nazanin" panose="00000400000000000000" pitchFamily="2" charset="-78"/>
            </a:rPr>
            <a:t>اقلام اصلی</a:t>
          </a: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8F3BA826-7A0A-448F-9100-4405E4B4DBCE}" type="parTrans" cxnId="{BF98ADFB-39CD-4423-83C8-9B7884CF12A3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F90F371E-53FE-4FD8-9F0A-4232E191DE95}" type="sibTrans" cxnId="{BF98ADFB-39CD-4423-83C8-9B7884CF12A3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249E04F8-C3B8-4E2D-9C49-A64FBE70EDED}">
      <dgm:prSet phldrT="[Text]" custT="1"/>
      <dgm:spPr/>
      <dgm:t>
        <a:bodyPr/>
        <a:lstStyle/>
        <a:p>
          <a:r>
            <a:rPr lang="fa-IR" sz="2800" b="1" dirty="0" smtClean="0">
              <a:solidFill>
                <a:schemeClr val="tx1"/>
              </a:solidFill>
              <a:cs typeface="B Nazanin" panose="00000400000000000000" pitchFamily="2" charset="-78"/>
            </a:rPr>
            <a:t>اقلام تکمیلی</a:t>
          </a: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B42E8FE2-BB01-4AAA-AF9A-1A3602D02704}" type="parTrans" cxnId="{D0223927-3F97-4A25-8794-0C7E236C1398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416BD8BB-7752-4672-8B8D-62DC0595A7DA}" type="sibTrans" cxnId="{D0223927-3F97-4A25-8794-0C7E236C1398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B4AA16E9-D2FE-4752-9BAB-366051CC16FD}">
      <dgm:prSet phldrT="[Text]" custT="1"/>
      <dgm:spPr/>
      <dgm:t>
        <a:bodyPr/>
        <a:lstStyle/>
        <a:p>
          <a:pPr marL="0" marR="0" lvl="0" indent="0" algn="ctr" defTabSz="914400" eaLnBrk="1" fontAlgn="auto" latinLnBrk="0" hangingPunct="1">
            <a:lnSpc>
              <a:spcPct val="100000"/>
            </a:lnSpc>
            <a:spcBef>
              <a:spcPts val="0"/>
            </a:spcBef>
            <a:spcAft>
              <a:spcPts val="0"/>
            </a:spcAft>
            <a:buClrTx/>
            <a:buSzTx/>
            <a:buFontTx/>
            <a:buNone/>
            <a:tabLst/>
            <a:defRPr/>
          </a:pPr>
          <a:r>
            <a:rPr lang="fa-IR" sz="2800" b="1" smtClean="0">
              <a:solidFill>
                <a:schemeClr val="tx1"/>
              </a:solidFill>
              <a:cs typeface="B Nazanin" panose="00000400000000000000" pitchFamily="2" charset="-78"/>
            </a:rPr>
            <a:t>محتویات کیف</a:t>
          </a:r>
        </a:p>
        <a:p>
          <a:pPr lvl="0" defTabSz="1600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01414706-E5F1-43FE-9F31-3E23016D458A}" type="sibTrans" cxnId="{F0C7B147-98D7-42C5-BE27-F9416B717F41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81B6D747-FCD4-44FB-A4BB-BD6045973B12}" type="parTrans" cxnId="{F0C7B147-98D7-42C5-BE27-F9416B717F41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45C3729F-71C6-4F62-A637-8A5DAEA5D86D}" type="pres">
      <dgm:prSet presAssocID="{1D572415-1543-480D-A6A5-19309A8A8E0D}" presName="Name0" presStyleCnt="0">
        <dgm:presLayoutVars>
          <dgm:chMax val="4"/>
          <dgm:resizeHandles val="exact"/>
        </dgm:presLayoutVars>
      </dgm:prSet>
      <dgm:spPr/>
      <dgm:t>
        <a:bodyPr/>
        <a:lstStyle/>
        <a:p>
          <a:endParaRPr lang="en-SG"/>
        </a:p>
      </dgm:t>
    </dgm:pt>
    <dgm:pt modelId="{1E2A69D0-05A0-4D3E-BBE5-C72CBFDE966E}" type="pres">
      <dgm:prSet presAssocID="{1D572415-1543-480D-A6A5-19309A8A8E0D}" presName="ellipse" presStyleLbl="trBgShp" presStyleIdx="0" presStyleCnt="1"/>
      <dgm:spPr/>
    </dgm:pt>
    <dgm:pt modelId="{AEBC9CB9-2A08-43B8-8BA5-E70143690A38}" type="pres">
      <dgm:prSet presAssocID="{1D572415-1543-480D-A6A5-19309A8A8E0D}" presName="arrow1" presStyleLbl="fgShp" presStyleIdx="0" presStyleCnt="1"/>
      <dgm:spPr/>
    </dgm:pt>
    <dgm:pt modelId="{034C8D08-D90F-4D1A-8A95-407915CEFCBF}" type="pres">
      <dgm:prSet presAssocID="{1D572415-1543-480D-A6A5-19309A8A8E0D}" presName="rectangle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9137A061-FA6F-4E60-BE8F-411187B36BD3}" type="pres">
      <dgm:prSet presAssocID="{249E04F8-C3B8-4E2D-9C49-A64FBE70EDED}" presName="item1" presStyleLbl="node1" presStyleIdx="0" presStyleCnt="2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7FF2573-11A8-4935-80BB-AD4FF4B0BB89}" type="pres">
      <dgm:prSet presAssocID="{B4AA16E9-D2FE-4752-9BAB-366051CC16FD}" presName="item2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5C609B2-7576-4D50-8FCD-8F6F93E8E4B6}" type="pres">
      <dgm:prSet presAssocID="{1D572415-1543-480D-A6A5-19309A8A8E0D}" presName="funnel" presStyleLbl="trAlignAcc1" presStyleIdx="0" presStyleCnt="1"/>
      <dgm:spPr/>
    </dgm:pt>
  </dgm:ptLst>
  <dgm:cxnLst>
    <dgm:cxn modelId="{F0C7B147-98D7-42C5-BE27-F9416B717F41}" srcId="{1D572415-1543-480D-A6A5-19309A8A8E0D}" destId="{B4AA16E9-D2FE-4752-9BAB-366051CC16FD}" srcOrd="2" destOrd="0" parTransId="{81B6D747-FCD4-44FB-A4BB-BD6045973B12}" sibTransId="{01414706-E5F1-43FE-9F31-3E23016D458A}"/>
    <dgm:cxn modelId="{D0223927-3F97-4A25-8794-0C7E236C1398}" srcId="{1D572415-1543-480D-A6A5-19309A8A8E0D}" destId="{249E04F8-C3B8-4E2D-9C49-A64FBE70EDED}" srcOrd="1" destOrd="0" parTransId="{B42E8FE2-BB01-4AAA-AF9A-1A3602D02704}" sibTransId="{416BD8BB-7752-4672-8B8D-62DC0595A7DA}"/>
    <dgm:cxn modelId="{9DCB18EC-821A-4558-ADDA-03593FBBD574}" type="presOf" srcId="{1D572415-1543-480D-A6A5-19309A8A8E0D}" destId="{45C3729F-71C6-4F62-A637-8A5DAEA5D86D}" srcOrd="0" destOrd="0" presId="urn:microsoft.com/office/officeart/2005/8/layout/funnel1"/>
    <dgm:cxn modelId="{6EC79895-CF7E-40B7-BA0C-6D0385DCF650}" type="presOf" srcId="{B4AA16E9-D2FE-4752-9BAB-366051CC16FD}" destId="{034C8D08-D90F-4D1A-8A95-407915CEFCBF}" srcOrd="0" destOrd="0" presId="urn:microsoft.com/office/officeart/2005/8/layout/funnel1"/>
    <dgm:cxn modelId="{23AC0726-02A7-4BA8-9371-E403BB666839}" type="presOf" srcId="{EEB7130B-CF67-43BD-9BA5-BC0810802DD3}" destId="{07FF2573-11A8-4935-80BB-AD4FF4B0BB89}" srcOrd="0" destOrd="0" presId="urn:microsoft.com/office/officeart/2005/8/layout/funnel1"/>
    <dgm:cxn modelId="{BF98ADFB-39CD-4423-83C8-9B7884CF12A3}" srcId="{1D572415-1543-480D-A6A5-19309A8A8E0D}" destId="{EEB7130B-CF67-43BD-9BA5-BC0810802DD3}" srcOrd="0" destOrd="0" parTransId="{8F3BA826-7A0A-448F-9100-4405E4B4DBCE}" sibTransId="{F90F371E-53FE-4FD8-9F0A-4232E191DE95}"/>
    <dgm:cxn modelId="{1A620D64-5B3C-4D85-A24A-C5972BF2964F}" type="presOf" srcId="{249E04F8-C3B8-4E2D-9C49-A64FBE70EDED}" destId="{9137A061-FA6F-4E60-BE8F-411187B36BD3}" srcOrd="0" destOrd="0" presId="urn:microsoft.com/office/officeart/2005/8/layout/funnel1"/>
    <dgm:cxn modelId="{DD3C1308-7B4D-419B-927F-BA84364C83DB}" type="presParOf" srcId="{45C3729F-71C6-4F62-A637-8A5DAEA5D86D}" destId="{1E2A69D0-05A0-4D3E-BBE5-C72CBFDE966E}" srcOrd="0" destOrd="0" presId="urn:microsoft.com/office/officeart/2005/8/layout/funnel1"/>
    <dgm:cxn modelId="{ABB1F97B-E0E5-41DC-9214-0C55FB87BCD8}" type="presParOf" srcId="{45C3729F-71C6-4F62-A637-8A5DAEA5D86D}" destId="{AEBC9CB9-2A08-43B8-8BA5-E70143690A38}" srcOrd="1" destOrd="0" presId="urn:microsoft.com/office/officeart/2005/8/layout/funnel1"/>
    <dgm:cxn modelId="{2C537C87-B641-4389-B4F9-CC79C6D9CFD7}" type="presParOf" srcId="{45C3729F-71C6-4F62-A637-8A5DAEA5D86D}" destId="{034C8D08-D90F-4D1A-8A95-407915CEFCBF}" srcOrd="2" destOrd="0" presId="urn:microsoft.com/office/officeart/2005/8/layout/funnel1"/>
    <dgm:cxn modelId="{426ED9CF-4C0D-4CEB-A016-0FA0AF17BD1C}" type="presParOf" srcId="{45C3729F-71C6-4F62-A637-8A5DAEA5D86D}" destId="{9137A061-FA6F-4E60-BE8F-411187B36BD3}" srcOrd="3" destOrd="0" presId="urn:microsoft.com/office/officeart/2005/8/layout/funnel1"/>
    <dgm:cxn modelId="{613C91DF-5A86-4124-BF69-823911CC1923}" type="presParOf" srcId="{45C3729F-71C6-4F62-A637-8A5DAEA5D86D}" destId="{07FF2573-11A8-4935-80BB-AD4FF4B0BB89}" srcOrd="4" destOrd="0" presId="urn:microsoft.com/office/officeart/2005/8/layout/funnel1"/>
    <dgm:cxn modelId="{D823CE8B-D787-4EA9-8544-78FCD5989358}" type="presParOf" srcId="{45C3729F-71C6-4F62-A637-8A5DAEA5D86D}" destId="{85C609B2-7576-4D50-8FCD-8F6F93E8E4B6}" srcOrd="5" destOrd="0" presId="urn:microsoft.com/office/officeart/2005/8/layout/funnel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funnel1">
  <dgm:title val=""/>
  <dgm:desc val=""/>
  <dgm:catLst>
    <dgm:cat type="relationship" pri="2000"/>
    <dgm:cat type="process" pri="27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4"/>
      <dgm:resizeHandles val="exact"/>
    </dgm:varLst>
    <dgm:alg type="composite">
      <dgm:param type="ar" val="1.25"/>
    </dgm:alg>
    <dgm:shape xmlns:r="http://schemas.openxmlformats.org/officeDocument/2006/relationships" r:blip="">
      <dgm:adjLst/>
    </dgm:shape>
    <dgm:presOf/>
    <dgm:choose name="Name1">
      <dgm:if name="Name2" axis="ch" ptType="node" func="cnt" op="equ" val="2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w" for="ch" forName="item1" refType="w" fact="0.35"/>
          <dgm:constr type="h" for="ch" forName="item1" refType="w" fact="0.35"/>
          <dgm:constr type="t" for="ch" forName="item1" refType="h" fact="0.05"/>
          <dgm:constr type="l" for="ch" forName="item1" refType="w" fact="0.125"/>
          <dgm:constr type="primFontSz" for="ch" forName="item1" op="equ" val="65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if>
      <dgm:else name="Name3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primFontSz" for="ch" forName="rectangle" val="65"/>
          <dgm:constr type="w" for="ch" forName="item1" refType="w" fact="0.225"/>
          <dgm:constr type="h" for="ch" forName="item1" refType="w" fact="0.225"/>
          <dgm:constr type="t" for="ch" forName="item1" refType="h" fact="0.336"/>
          <dgm:constr type="l" for="ch" forName="item1" refType="w" fact="0.261"/>
          <dgm:constr type="primFontSz" for="ch" forName="item1" val="65"/>
          <dgm:constr type="w" for="ch" forName="item2" refType="w" fact="0.225"/>
          <dgm:constr type="h" for="ch" forName="item2" refType="w" fact="0.225"/>
          <dgm:constr type="t" for="ch" forName="item2" refType="h" fact="0.125"/>
          <dgm:constr type="l" for="ch" forName="item2" refType="w" fact="0.1"/>
          <dgm:constr type="primFontSz" for="ch" forName="item2" refType="primFontSz" refFor="ch" refForName="item1" op="equ"/>
          <dgm:constr type="w" for="ch" forName="item3" refType="w" fact="0.225"/>
          <dgm:constr type="h" for="ch" forName="item3" refType="w" fact="0.225"/>
          <dgm:constr type="t" for="ch" forName="item3" refType="h" fact="0.057"/>
          <dgm:constr type="l" for="ch" forName="item3" refType="w" fact="0.33"/>
          <dgm:constr type="primFontSz" for="ch" forName="item3" refType="primFontSz" refFor="ch" refForName="item1" op="equ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else>
    </dgm:choose>
    <dgm:ruleLst/>
    <dgm:choose name="Name4">
      <dgm:if name="Name5" axis="ch" ptType="node" func="cnt" op="gte" val="1">
        <dgm:layoutNode name="ellipse" styleLbl="trBgShp">
          <dgm:alg type="sp"/>
          <dgm:shape xmlns:r="http://schemas.openxmlformats.org/officeDocument/2006/relationships" type="ellipse" r:blip="">
            <dgm:adjLst/>
          </dgm:shape>
          <dgm:presOf/>
          <dgm:constrLst/>
          <dgm:ruleLst/>
        </dgm:layoutNode>
        <dgm:layoutNode name="arrow1" styleLbl="fgShp">
          <dgm:alg type="sp"/>
          <dgm:shape xmlns:r="http://schemas.openxmlformats.org/officeDocument/2006/relationships" type="downArrow" r:blip="">
            <dgm:adjLst/>
          </dgm:shape>
          <dgm:presOf/>
          <dgm:constrLst/>
          <dgm:ruleLst/>
        </dgm:layoutNode>
        <dgm:layoutNode name="rectangle" styleLbl="revTx">
          <dgm:varLst>
            <dgm:bulletEnabled val="1"/>
          </dgm:varLst>
          <dgm:alg type="tx">
            <dgm:param type="txAnchorHorzCh" val="ctr"/>
          </dgm:alg>
          <dgm:shape xmlns:r="http://schemas.openxmlformats.org/officeDocument/2006/relationships" type="rect" r:blip="">
            <dgm:adjLst/>
          </dgm:shape>
          <dgm:choose name="Name6">
            <dgm:if name="Name7" axis="ch" ptType="node" func="cnt" op="equ" val="1">
              <dgm:presOf axis="ch desOrSelf" ptType="node node" st="1 1" cnt="1 0"/>
            </dgm:if>
            <dgm:if name="Name8" axis="ch" ptType="node" func="cnt" op="equ" val="2">
              <dgm:presOf axis="ch desOrSelf" ptType="node node" st="2 1" cnt="1 0"/>
            </dgm:if>
            <dgm:if name="Name9" axis="ch" ptType="node" func="cnt" op="equ" val="3">
              <dgm:presOf axis="ch desOrSelf" ptType="node node" st="3 1" cnt="1 0"/>
            </dgm:if>
            <dgm:else name="Name10">
              <dgm:presOf axis="ch desOrSelf" ptType="node node" st="4 1" cnt="1 0"/>
            </dgm:else>
          </dgm:choose>
          <dgm:constrLst/>
          <dgm:ruleLst>
            <dgm:rule type="primFontSz" val="5" fact="NaN" max="NaN"/>
          </dgm:ruleLst>
        </dgm:layoutNode>
        <dgm:forEach name="Name11" axis="ch" ptType="node" st="2" cnt="1">
          <dgm:layoutNode name="item1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2">
              <dgm:if name="Name13" axis="root ch" ptType="all node" func="cnt" op="equ" val="1">
                <dgm:presOf/>
              </dgm:if>
              <dgm:if name="Name14" axis="root ch" ptType="all node" func="cnt" op="equ" val="2">
                <dgm:presOf axis="root ch desOrSelf" ptType="all node node" st="1 1 1" cnt="0 1 0"/>
              </dgm:if>
              <dgm:if name="Name15" axis="root ch" ptType="all node" func="cnt" op="equ" val="3">
                <dgm:presOf axis="root ch desOrSelf" ptType="all node node" st="1 2 1" cnt="0 1 0"/>
              </dgm:if>
              <dgm:else name="Name16">
                <dgm:presOf axis="root ch desOrSelf" ptType="all node node" st="1 3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17" axis="ch" ptType="node" st="3" cnt="1">
          <dgm:layoutNode name="item2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8">
              <dgm:if name="Name19" axis="root ch" ptType="all node" func="cnt" op="equ" val="1">
                <dgm:presOf/>
              </dgm:if>
              <dgm:if name="Name20" axis="root ch" ptType="all node" func="cnt" op="equ" val="2">
                <dgm:presOf/>
              </dgm:if>
              <dgm:if name="Name21" axis="root ch" ptType="all node" func="cnt" op="equ" val="3">
                <dgm:presOf axis="root ch desOrSelf" ptType="all node node" st="1 1 1" cnt="0 1 0"/>
              </dgm:if>
              <dgm:else name="Name22">
                <dgm:presOf axis="root ch desOrSelf" ptType="all node node" st="1 2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23" axis="ch" ptType="node" st="4" cnt="1">
          <dgm:layoutNode name="item3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4">
              <dgm:if name="Name25" axis="root ch" ptType="all node" func="cnt" op="equ" val="1">
                <dgm:presOf/>
              </dgm:if>
              <dgm:if name="Name26" axis="root ch" ptType="all node" func="cnt" op="equ" val="2">
                <dgm:presOf/>
              </dgm:if>
              <dgm:if name="Name27" axis="root ch" ptType="all node" func="cnt" op="equ" val="3">
                <dgm:presOf/>
              </dgm:if>
              <dgm:else name="Name28">
                <dgm:presOf axis="root ch desOrSelf" ptType="all node node" st="1 1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layoutNode name="funnel" styleLbl="trAlignAcc1">
          <dgm:alg type="sp"/>
          <dgm:shape xmlns:r="http://schemas.openxmlformats.org/officeDocument/2006/relationships" type="funnel" r:blip="">
            <dgm:adjLst/>
          </dgm:shape>
          <dgm:presOf/>
          <dgm:constrLst/>
          <dgm:ruleLst/>
        </dgm:layoutNode>
      </dgm:if>
      <dgm:else name="Name29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215A7-8D13-421A-9D80-5C55ADC0E0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E8740-9D01-4E7F-913B-8A6E8E10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2B620-3F74-45D4-B1AA-70D53DDC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4C316-E5C4-4E84-B0DA-ACF7716EF7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B434D-92AD-454D-9861-56C4C062C3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719AF-B8D8-400D-870E-F642E1B2DB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3FF75-3C6F-421F-BB87-594FACA43D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65B54-4028-4101-A3EA-BAFACF6BD3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FEE7E-4A9E-44AB-A103-BE446ADA50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82636-6946-4FFF-B9B8-3C296B6378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F147B-346A-4D48-B2DC-9F015EFA21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BB59F-1B3D-407F-B900-E824046D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A70CC-FD25-4E0F-B1B7-B2C1B6ED71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4330A-F607-4F62-868E-B64FDDC4BD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BAE9C-B21F-428F-BA0B-F611D2A4D7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C2BA9-C336-46C6-A9B3-A964A526D3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4759C-7B09-45FC-A1F9-6B7AB00158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DCD9DF-07B3-4E51-9D11-8AD31861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88EFBE-D85C-40BC-8B59-79D76393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A6D294-D2EB-42DE-9DD8-97120DB0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A4D257-85C2-47A9-8273-6A7337C6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155121-B1C7-45A0-85DF-83EDD2EF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C191A-313D-4CA2-A949-40CEEB50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9643FF-8A45-4EB7-A90B-C385A98F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B8FC0A-8CB1-46E8-A289-F56D6DED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3B4C8A-D94C-4071-AA9B-EA9C6660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8972FA-81E5-4FF3-87E2-705BA2BC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9CE724-6B66-4EC7-86E6-E4A7DCA9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53696F-9B61-4E6C-AE85-2B9E4937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4412CB-052D-452F-A3E2-D5F71C5C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870D-C926-43F5-B4AE-F4A23C2E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FBA5C-F31A-463A-A32E-C2296FE9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13355-15FA-4398-B6EC-43C39868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181EB-21DB-49BE-B800-19086948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4FAD7-5906-4978-83D1-551AB133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0F852-B81D-417D-A4A9-2077D142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FB7232-308A-4C28-9ED9-AA9A0D5D2298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Footer Placeholder 4"/>
          <p:cNvSpPr/>
          <p:nvPr/>
        </p:nvSpPr>
        <p:spPr>
          <a:xfrm>
            <a:off x="3844440" y="6629400"/>
            <a:ext cx="48225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 cap="all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2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3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FA219A-633B-448C-A0CB-F0D05943B20C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7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8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ftr" idx="6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CC71BF-AC48-4704-A8C2-2994E39FE28D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کیف نجات خانواد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45" name="PlaceHolder 3"/>
          <p:cNvSpPr>
            <a:spLocks noGrp="1"/>
          </p:cNvSpPr>
          <p:nvPr>
            <p:ph type="ftr" idx="8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C24F8-F6F0-4F6B-88E6-4FE15E11C8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c00000"/>
                </a:solidFill>
                <a:latin typeface="Calibri Light"/>
                <a:cs typeface="B Titr"/>
              </a:rPr>
              <a:t>شرایط نگهداری کی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جای خشک و خنک: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15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تا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0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درج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زدیک مسیر خروج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خودرو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سناد در پوشش ضد آب باش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ک کردن کیف در زمانهای منظم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0" name="Picture 2" descr="Image result for Emergency family kit in car"/>
          <p:cNvPicPr/>
          <p:nvPr/>
        </p:nvPicPr>
        <p:blipFill>
          <a:blip r:embed="rId1"/>
          <a:stretch/>
        </p:blipFill>
        <p:spPr>
          <a:xfrm>
            <a:off x="335520" y="2205000"/>
            <a:ext cx="4874040" cy="3258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371E7-28D3-4049-89F9-45A170AE15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Content Placeholder 3" descr=""/>
          <p:cNvPicPr/>
          <p:nvPr/>
        </p:nvPicPr>
        <p:blipFill>
          <a:blip r:embed="rId1"/>
          <a:stretch/>
        </p:blipFill>
        <p:spPr>
          <a:xfrm>
            <a:off x="2303640" y="1766520"/>
            <a:ext cx="7670520" cy="4314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B1991-1276-46CD-8028-F6DB3634DC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49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BFCD0-C268-4E76-A62C-7510A95483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نحوه تهیه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25560" indent="-7430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هیه چک لیستی از وسایل مورد نیاز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آماده کردن وسایل مطابق با لیست تهیه شد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سته بندی همه وسایل و جاگذاری در کیف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کیف قابل شستشو و قابل حمل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rcRect l="-265" t="0" r="0" b="0"/>
          <a:stretch/>
        </p:blipFill>
        <p:spPr>
          <a:xfrm>
            <a:off x="638280" y="1805040"/>
            <a:ext cx="4196160" cy="418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3D5B9-A404-4015-95E5-68C289D774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093952749"/>
              </p:ext>
            </p:extLst>
          </p:nvPr>
        </p:nvGraphicFramePr>
        <p:xfrm>
          <a:off x="1557360" y="223920"/>
          <a:ext cx="8966520" cy="6565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55" name="Picture 5" descr=""/>
          <p:cNvPicPr/>
          <p:nvPr/>
        </p:nvPicPr>
        <p:blipFill>
          <a:blip r:embed="rId5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71703B-0A2F-4D92-B785-BEC2B51E1D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83360" y="1196640"/>
            <a:ext cx="718488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اصلی شامل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آب برای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روز به ازای هر فرد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7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لیتر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غذا غیر فاسدشدنی  برای حداقل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روز : کنسرو، نان خشک و  بیسکویت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عبه کمکهای اولی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ادیو و باتر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686880" y="4094280"/>
            <a:ext cx="3198600" cy="2228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3"/>
          <a:stretch/>
        </p:blipFill>
        <p:spPr>
          <a:xfrm>
            <a:off x="686880" y="1535040"/>
            <a:ext cx="3198600" cy="248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5C950-421E-4DD1-9B9A-7A3BFE49A6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9520" y="1380600"/>
            <a:ext cx="11088720" cy="5091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8000"/>
          </a:bodyPr>
          <a:p>
            <a:pPr marL="18360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اصلی شامل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راغ قو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وت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تلفن همراه با شارژر و باتری پشتیبان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اسک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ادر مسافرتی یا مشمع و نوار چسب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ب بازکن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قشه های محل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886680" y="1671120"/>
            <a:ext cx="3264120" cy="451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6FC43-6E7F-4C9B-ABD6-2E0D068D8A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5880" y="1332360"/>
            <a:ext cx="1112580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تکمیلی شامل: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وسایل بهداشت شخصی:صابون، ضد عفونی کننده دست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وسایل بهداشتی مورد نیاز بانوان، کودکان و سالمندان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داروهای بدون نسخه: مسکن، ضد تهوع و اسهال، داروهای ضداسید معده، پمادهای موضعی و ...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کیسه خواب یا پتو گرم برای هر شخص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425880" y="1759680"/>
            <a:ext cx="2854080" cy="22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8437F-1D0F-45E1-8A87-7C079DCB3D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25880" y="1332360"/>
            <a:ext cx="1112580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8000"/>
          </a:bodyPr>
          <a:p>
            <a:pPr marL="16704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تکمیلی شامل: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لباس متناسب با آب و هوا و کفشهای محکم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سناد مهم: کپی بیمه نامه ها ، شناسنامه و سوابق حساب بانکی و ... 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کپسول آتش نشانی کوچک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سباب بازی و سرگرمی برای گودکان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کتاب های مورد علاقه : ادعیه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16704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1079280" y="3815280"/>
            <a:ext cx="2878560" cy="22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4E5F0-7DEE-4F43-8DD8-88AB5D4553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ubtitle 1"/>
          <p:cNvSpPr/>
          <p:nvPr/>
        </p:nvSpPr>
        <p:spPr>
          <a:xfrm>
            <a:off x="2882880" y="1533960"/>
            <a:ext cx="9070560" cy="44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2000"/>
          </a:bodyPr>
          <a:p>
            <a:pPr marL="624960"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77" strike="noStrike">
                <a:solidFill>
                  <a:srgbClr val="000000"/>
                </a:solidFill>
                <a:latin typeface="Calibri"/>
                <a:cs typeface="B Nazanin"/>
              </a:rPr>
              <a:t>تجهیزات کنترل قند خون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496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نسولی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رن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گلوکومت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وار تست ق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گلوکاگ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کیف یخ خش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پنبه الکل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3432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Image result for ‫ویال گلوکاگون‬‎"/>
          <p:cNvPicPr/>
          <p:nvPr/>
        </p:nvPicPr>
        <p:blipFill>
          <a:blip r:embed="rId1"/>
          <a:stretch/>
        </p:blipFill>
        <p:spPr>
          <a:xfrm>
            <a:off x="893520" y="4435560"/>
            <a:ext cx="3860280" cy="1987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Image result for ‫دستگاه گلوکومتر‬‎"/>
          <p:cNvPicPr/>
          <p:nvPr/>
        </p:nvPicPr>
        <p:blipFill>
          <a:blip r:embed="rId2"/>
          <a:stretch/>
        </p:blipFill>
        <p:spPr>
          <a:xfrm>
            <a:off x="1079280" y="1886760"/>
            <a:ext cx="2995920" cy="1962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3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1320E-C8F4-4C9C-BA21-1CADAA66C6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580</TotalTime>
  <Application>LibreOffice/7.4.7.2$Linux_X86_64 LibreOffice_project/40$Build-2</Application>
  <AppVersion>15.0000</AppVersion>
  <Words>267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5:01Z</dcterms:modified>
  <cp:revision>1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1</vt:r8>
  </property>
</Properties>
</file>