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E2E3B-4D30-4AD3-90C5-2BB200E4AD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96732-AD14-4A70-8D3D-21958BA5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824B0-8E8C-42F0-89BE-9BA6340B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0B31C-716A-4F5B-B880-7855658B5E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323A3-92F9-46DF-827B-38BEC97364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FE4E5-77C2-42DB-9ABA-A101ED7788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B7086-9784-458C-99BF-CD9A0936F3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5773D-9801-44F1-82CB-C575A78129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D436A-E2B3-42E1-8D79-D1EF22ACBC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69C52-1BB2-4263-BBC4-71172BF76D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E6247-DDB3-4091-A815-E6FB18BABE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AD45F-74CA-415B-9E06-4C498283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B119E-6199-4C5A-91DB-59DB2C65BE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E1F8B-314B-4251-9B60-2FD5DC46BF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21AF1B-7F6C-46D1-951D-A8A1F2DCB7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DF175-2B89-4198-A484-5455441A52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4EC2D-63C3-4E8E-8E20-CBCFA64AA8C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50D7-1720-4B60-BDA6-26D6BDA7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C4A6-56AE-47EB-B12F-BA03C6B6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216C-42C4-4747-B237-745484FC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A175-5A3E-4B4A-AE25-2CA4FB46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D59E-69ED-4174-9A6D-B6A5A75F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F0229-29AA-43DE-83D6-9D5E686A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116D-D776-4C59-8BBC-20D262E9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E376-DD3C-4A2E-8053-15875BD7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DB30-1FF4-4F79-A0BB-BCC3AAD0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01BD-6244-45D6-B1FA-4FAE1D99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F99C-1A7F-450E-B894-33FD9443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F3EA-72DD-4EA6-B471-9BD6259B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1991-9C88-40F9-BF12-B08E10E2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2668CE-59E0-44A0-81C0-B9CE123A4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41050D-65B3-4C5E-9185-DB0583EE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592DE0-31CE-48F8-91E0-A072BC02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68064-1CF6-4E13-907E-A687DF1F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C81399-482F-4075-A110-FBD9D108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7AF202-CD1D-4296-8BA4-87139ED9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A18D5E-CBF3-4F83-94E4-26122B79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54B108-0638-4217-914C-9C94BEA4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F28A64-9194-4DC3-B81C-2D542583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FABA95-8966-46E9-B4B8-9BB64CE6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F3F54B-22C4-4A86-B94F-535E0F9C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E53ABF-1FE6-4354-9521-FEB394AA9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118608-F018-416A-818D-C4EB259E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177B1-24DE-4257-8CBC-46E0C90E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F373C-C633-48E5-851B-8FC9F40BA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810A2-9F96-4A15-8006-19134949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1EDE3-FF90-40DC-8004-7F1E5E79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38DE5-8246-414A-90B5-8AC6B502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7280" y="758880"/>
            <a:ext cx="1005804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rtl="1">
              <a:lnSpc>
                <a:spcPct val="85000"/>
              </a:lnSpc>
              <a:buNone/>
            </a:pPr>
            <a:r>
              <a:rPr b="1" lang="en-US" sz="8000" spc="-52" strike="noStrike">
                <a:solidFill>
                  <a:srgbClr val="262626"/>
                </a:solidFill>
                <a:latin typeface="Calibri Light"/>
              </a:rPr>
              <a:t>Click to edit Master title sty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55CC5E-92C6-4207-8E67-AC4C3AC568AE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" name="Straight Connector 8"/>
          <p:cNvCxnSpPr/>
          <p:nvPr/>
        </p:nvCxnSpPr>
        <p:spPr>
          <a:xfrm>
            <a:off x="1207440" y="4343400"/>
            <a:ext cx="987588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51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52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0760" y="6446880"/>
            <a:ext cx="4822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6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6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4"/>
          </p:nvPr>
        </p:nvSpPr>
        <p:spPr>
          <a:xfrm>
            <a:off x="11649240" y="642672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F01FA6-E8CB-42A2-9AE6-FCB13CFB50EF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96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97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6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88A8E6-E4F7-4AF0-9D7A-6F285A19CF43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7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3"/>
          <a:stretch/>
        </p:blipFill>
        <p:spPr>
          <a:xfrm>
            <a:off x="10932120" y="4716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14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14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dt" idx="8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ftr" idx="9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10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52AFBA-D423-4AE4-8479-8970C949C312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71760" y="2165040"/>
            <a:ext cx="9143640" cy="202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30000"/>
              </a:lnSpc>
              <a:buNone/>
            </a:pPr>
            <a:r>
              <a:rPr b="1" lang="fa-IR" sz="4400" spc="-52" strike="noStrike">
                <a:solidFill>
                  <a:srgbClr val="1a2884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523880" y="4592520"/>
            <a:ext cx="9239400" cy="18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</a:pPr>
            <a:endParaRPr b="1" lang="en-US" sz="2400" spc="199" strike="noStrike" cap="all">
              <a:solidFill>
                <a:srgbClr val="335b74"/>
              </a:solidFill>
              <a:latin typeface="Calibri Light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9331920" y="76320"/>
            <a:ext cx="2863440" cy="1259640"/>
          </a:xfrm>
          <a:prstGeom prst="rect">
            <a:avLst/>
          </a:prstGeom>
          <a:ln w="9525">
            <a:noFill/>
          </a:ln>
        </p:spPr>
      </p:pic>
      <p:sp>
        <p:nvSpPr>
          <p:cNvPr id="191" name="PlaceHolder 3"/>
          <p:cNvSpPr>
            <a:spLocks noGrp="1"/>
          </p:cNvSpPr>
          <p:nvPr>
            <p:ph type="ftr" idx="11"/>
          </p:nvPr>
        </p:nvSpPr>
        <p:spPr>
          <a:xfrm>
            <a:off x="3515040" y="362268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SG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SG" sz="1400" spc="-1" strike="noStrike">
                <a:solidFill>
                  <a:srgbClr val="ffffff"/>
                </a:solidFill>
                <a:latin typeface="Calibri"/>
              </a:rPr>
              <a:t>Dehghani.Am64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8B88D-C1B3-48E8-BFEA-4E852208A9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800" spc="-52" strike="noStrike">
              <a:solidFill>
                <a:srgbClr val="b4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95" name="Picture 2" descr="Image result for بسم الله الرحمن الرحيم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"/>
          <p:cNvSpPr/>
          <p:nvPr/>
        </p:nvSpPr>
        <p:spPr>
          <a:xfrm>
            <a:off x="0" y="6267240"/>
            <a:ext cx="1386720" cy="5904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.Ghom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45312-7909-4636-A638-C154333545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642960" y="1141920"/>
            <a:ext cx="10795320" cy="60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اتومبيل‌ خود را در محلي‌ امن‌ و كاملاً بافاصله‌ نسبت‌ به‌ محل‌ حادثه‌ پارك‌ كني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چراغ‌هاي‌ خطر آن‌ را به‌ حالت‌ چشمك‌زن‌ قرار ده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به‌یک‌باره از خودرو پیاده و  وارد جاده نشوی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در عرض خیابان ندوی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در شب‌، لباسي‌ بپوشيد يا چيزي‌ حمل‌ كنيد كه‌ روشن‌ يا منعكس‌كننده‌ نور باشد یا از چراغ‌قوه‌ استفاده‌ كن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8407-5FCC-41B9-9F3F-1669D79147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914400" y="1525680"/>
            <a:ext cx="10736640" cy="52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حداقل‌ به‌ فاصله‌ 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۴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متر از محل‌ حادثه‌ در هر دو طرف‌ آن‌، مثلث‌ يا چراغ‌ هشداردهنده‌ قرار ده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بلافاصله با مرکز فوریت پلیس و اورژانس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تماس بگیری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در تماس با اورژانس تعداد مصدومان را اعلام کنی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به‌سرعت‌ تمام‌ مصدومان‌ را ارزيابي‌ كني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اگر بيش‌ از يك‌ مصدوم‌ وجود دارد، ابتدا به‌ آن‌هایی‌ كه‌ ممكن‌ است‌ آسيب‌هاي‌ تهديدكننده‌ حيات‌ (مثل‌ سوختگي‌ يا زخم‌ شديد) داشته‌ باشند، رسيدگي‌ كن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605880" y="2600280"/>
            <a:ext cx="3236400" cy="205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2E5D-B492-4B5D-B6B4-35B331B283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493200" y="1973880"/>
            <a:ext cx="1097244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مصدوم‌ را حركت‌ ندهيد مگر وقتی‌که‌ قطعاً ضرورت‌ داشته‌ باش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در صورت‌ امكان‌، مصدومان‌ را در همان‌ وضعيتي‌ كه‌ با آن‌ها مواجه‌ شديد، درمان‌ كن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تنها درصورتی‌که‌ مصدومي‌ درخطر باشد يا به‌منظور ارائه‌ درمان‌ نجات‌بخش‌، مي‌توانيد وي‌ را جابه‌جا كني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9984-6A7B-424E-9A1D-38B4DF872B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932040" y="1696680"/>
            <a:ext cx="107010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2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B Nazanin"/>
              </a:rPr>
              <a:t>در مورد هر مصدومي‌ كه‌ در حوادث‌ رانندگي‌ آسیب‌دیده‌ است‌، هميشه‌ فرض‌ كنيد كه‌ آسيب‌ گردن‌ (نخاع‌) وجود دارد و سر مصدوم‌ را تا رسيدن‌ نيروهاي‌ كمكي‌، با دست‌ نگه‌داری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B Nazanin"/>
              </a:rPr>
              <a:t>محل‌ را به‌طور كامل‌ جستجو كنيد تا از مصدوماني‌ كه‌ به‌ مناطق‌ دورتر پرتاب‌شده‌اند يا از آن‌هایی‌ كه‌ به‌ خاطر منگي‌، بي‌هدف‌ حركت‌ كرده‌ و از محل‌ دور شده‌اند، غفلت‌ نكرده‌ باشي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0F63-2520-49FC-97DE-4A3C18DE8F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ftr" idx="12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fa-IR" sz="1400" spc="-1" strike="noStrike" cap="all">
                <a:solidFill>
                  <a:srgbClr val="ffffff"/>
                </a:solidFill>
                <a:latin typeface="Calibri"/>
                <a:cs typeface="B Nazani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fa-IR" sz="1400" spc="-1" strike="noStrike" cap="all">
                <a:solidFill>
                  <a:srgbClr val="ffffff"/>
                </a:solidFill>
                <a:latin typeface="Calibri"/>
                <a:cs typeface="B Nazanin"/>
              </a:rPr>
              <a:t>کارگاه آمادگی در برابر زلزله ( فرد – خانواده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SG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CD2892-6B6E-469D-94A5-A02B3B5C37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با تشکر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1031480" y="123840"/>
            <a:ext cx="1149840" cy="1149840"/>
          </a:xfrm>
          <a:prstGeom prst="rect">
            <a:avLst/>
          </a:prstGeom>
          <a:ln w="9525">
            <a:noFill/>
          </a:ln>
        </p:spPr>
      </p:pic>
      <p:pic>
        <p:nvPicPr>
          <p:cNvPr id="210" name="Content Placeholder 7" descr=""/>
          <p:cNvPicPr/>
          <p:nvPr/>
        </p:nvPicPr>
        <p:blipFill>
          <a:blip r:embed="rId2"/>
          <a:stretch/>
        </p:blipFill>
        <p:spPr>
          <a:xfrm>
            <a:off x="2978640" y="1772280"/>
            <a:ext cx="6473520" cy="43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001AB-E248-49E3-A0A9-ABA55799F9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etrospect</Template>
  <TotalTime>10656</TotalTime>
  <Application>LibreOffice/7.4.7.2$Linux_X86_64 LibreOffice_project/40$Build-2</Application>
  <AppVersion>15.0000</AppVersion>
  <Words>46</Words>
  <Paragraphs>3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3T12:17:57Z</dcterms:created>
  <dc:creator>Z Gh</dc:creator>
  <dc:description/>
  <dc:language>en-US</dc:language>
  <cp:lastModifiedBy>mahnaz khoshmanzar shahroudi</cp:lastModifiedBy>
  <dcterms:modified xsi:type="dcterms:W3CDTF">2022-01-29T07:54:16Z</dcterms:modified>
  <cp:revision>1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8</vt:r8>
  </property>
</Properties>
</file>