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colorful2">
  <dgm:title val=""/>
  <dgm:desc val=""/>
  <dgm:catLst>
    <dgm:cat type="colorful" pri="10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2"/>
      <a:schemeClr val="accent3"/>
    </dgm:fillClrLst>
    <dgm:linClrLst>
      <a:schemeClr val="accent2"/>
      <a:schemeClr val="accent3"/>
    </dgm:linClrLst>
    <dgm:effectClrLst/>
    <dgm:txLinClrLst/>
    <dgm:txFillClrLst/>
    <dgm:txEffectClrLst/>
  </dgm:styleLbl>
  <dgm:styleLbl name="lnNode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2">
        <a:alpha val="50000"/>
      </a:schemeClr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2">
        <a:tint val="50000"/>
      </a:schemeClr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2">
        <a:tint val="50000"/>
      </a:schemeClr>
      <a:schemeClr val="accent3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>
      <a:schemeClr val="accent2"/>
      <a:schemeClr val="accent3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/>
    <dgm:linClrLst>
      <a:schemeClr val="accent2"/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2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>
        <a:shade val="80000"/>
      </a:schemeClr>
    </dgm:linClrLst>
    <dgm:effectClrLst/>
    <dgm:txLinClrLst/>
    <dgm:txFillClrLst/>
    <dgm:txEffectClrLst/>
  </dgm:styleLbl>
  <dgm:styleLbl name="asst2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2">
        <a:tint val="9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2">
        <a:tint val="7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2">
        <a:tint val="50000"/>
      </a:schemeClr>
    </dgm:fillClrLst>
    <dgm:linClrLst meth="repeat">
      <a:schemeClr val="accent5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2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>
      <a:schemeClr val="accent2"/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>
      <a:schemeClr val="accent2">
        <a:tint val="40000"/>
        <a:alpha val="90000"/>
      </a:schemeClr>
      <a:schemeClr val="accent3">
        <a:tint val="40000"/>
        <a:alpha val="90000"/>
      </a:schemeClr>
    </dgm:fillClrLst>
    <dgm:linClrLst>
      <a:schemeClr val="accent2">
        <a:tint val="40000"/>
        <a:alpha val="90000"/>
      </a:schemeClr>
      <a:schemeClr val="accent3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5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2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1D572415-1543-480D-A6A5-19309A8A8E0D}" type="doc">
      <dgm:prSet loTypeId="urn:microsoft.com/office/officeart/2005/8/layout/funnel1" loCatId="process" qsTypeId="urn:microsoft.com/office/officeart/2005/8/quickstyle/simple1" qsCatId="simple" csTypeId="urn:microsoft.com/office/officeart/2005/8/colors/colorful2" csCatId="colorful" phldr="1"/>
      <dgm:spPr/>
      <dgm:t>
        <a:bodyPr/>
        <a:lstStyle/>
        <a:p>
          <a:endParaRPr lang="en-SG"/>
        </a:p>
      </dgm:t>
    </dgm:pt>
    <dgm:pt modelId="{EEB7130B-CF67-43BD-9BA5-BC0810802DD3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اص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F3BA826-7A0A-448F-9100-4405E4B4DBCE}" type="par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F90F371E-53FE-4FD8-9F0A-4232E191DE95}" type="sibTrans" cxnId="{BF98ADFB-39CD-4423-83C8-9B7884CF12A3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249E04F8-C3B8-4E2D-9C49-A64FBE70EDED}">
      <dgm:prSet phldrT="[Text]" custT="1"/>
      <dgm:spPr/>
      <dgm:t>
        <a:bodyPr/>
        <a:lstStyle/>
        <a:p>
          <a:r>
            <a:rPr lang="fa-IR" sz="2800" b="1" dirty="0" smtClean="0">
              <a:solidFill>
                <a:schemeClr val="tx1"/>
              </a:solidFill>
              <a:cs typeface="B Nazanin" panose="00000400000000000000" pitchFamily="2" charset="-78"/>
            </a:rPr>
            <a:t>اقلام تکمیلی</a:t>
          </a: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2E8FE2-BB01-4AAA-AF9A-1A3602D02704}" type="par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16BD8BB-7752-4672-8B8D-62DC0595A7DA}" type="sibTrans" cxnId="{D0223927-3F97-4A25-8794-0C7E236C1398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B4AA16E9-D2FE-4752-9BAB-366051CC16FD}">
      <dgm:prSet phldrT="[Text]" custT="1"/>
      <dgm:spPr/>
      <dgm:t>
        <a:bodyPr/>
        <a:lstStyle/>
        <a:p>
          <a:pPr marL="0" marR="0" lvl="0" indent="0" algn="ctr" defTabSz="914400" eaLnBrk="1" fontAlgn="auto" latinLnBrk="0" hangingPunct="1">
            <a:lnSpc>
              <a:spcPct val="100000"/>
            </a:lnSpc>
            <a:spcBef>
              <a:spcPts val="0"/>
            </a:spcBef>
            <a:spcAft>
              <a:spcPts val="0"/>
            </a:spcAft>
            <a:buClrTx/>
            <a:buSzTx/>
            <a:buFontTx/>
            <a:buNone/>
            <a:tabLst/>
            <a:defRPr/>
          </a:pPr>
          <a:r>
            <a:rPr lang="fa-IR" sz="2800" b="1" smtClean="0">
              <a:solidFill>
                <a:schemeClr val="tx1"/>
              </a:solidFill>
              <a:cs typeface="B Nazanin" panose="00000400000000000000" pitchFamily="2" charset="-78"/>
            </a:rPr>
            <a:t>محتویات کیف</a:t>
          </a:r>
        </a:p>
        <a:p>
          <a:pPr lvl="0" defTabSz="1600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endParaRPr lang="en-SG" sz="2800" b="1" dirty="0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01414706-E5F1-43FE-9F31-3E23016D458A}" type="sib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81B6D747-FCD4-44FB-A4BB-BD6045973B12}" type="parTrans" cxnId="{F0C7B147-98D7-42C5-BE27-F9416B717F41}">
      <dgm:prSet/>
      <dgm:spPr/>
      <dgm:t>
        <a:bodyPr/>
        <a:lstStyle/>
        <a:p>
          <a:endParaRPr lang="en-SG" sz="2800" b="1">
            <a:solidFill>
              <a:schemeClr val="tx1"/>
            </a:solidFill>
            <a:cs typeface="B Nazanin" panose="00000400000000000000" pitchFamily="2" charset="-78"/>
          </a:endParaRPr>
        </a:p>
      </dgm:t>
    </dgm:pt>
    <dgm:pt modelId="{45C3729F-71C6-4F62-A637-8A5DAEA5D86D}" type="pres">
      <dgm:prSet presAssocID="{1D572415-1543-480D-A6A5-19309A8A8E0D}" presName="Name0" presStyleCnt="0">
        <dgm:presLayoutVars>
          <dgm:chMax val="4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1E2A69D0-05A0-4D3E-BBE5-C72CBFDE966E}" type="pres">
      <dgm:prSet presAssocID="{1D572415-1543-480D-A6A5-19309A8A8E0D}" presName="ellipse" presStyleLbl="trBgShp" presStyleIdx="0" presStyleCnt="1"/>
      <dgm:spPr/>
    </dgm:pt>
    <dgm:pt modelId="{AEBC9CB9-2A08-43B8-8BA5-E70143690A38}" type="pres">
      <dgm:prSet presAssocID="{1D572415-1543-480D-A6A5-19309A8A8E0D}" presName="arrow1" presStyleLbl="fgShp" presStyleIdx="0" presStyleCnt="1"/>
      <dgm:spPr/>
    </dgm:pt>
    <dgm:pt modelId="{034C8D08-D90F-4D1A-8A95-407915CEFCBF}" type="pres">
      <dgm:prSet presAssocID="{1D572415-1543-480D-A6A5-19309A8A8E0D}" presName="rectangle" presStyleLbl="revTx" presStyleIdx="0" presStyleCnt="1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137A061-FA6F-4E60-BE8F-411187B36BD3}" type="pres">
      <dgm:prSet presAssocID="{249E04F8-C3B8-4E2D-9C49-A64FBE70EDED}" presName="item1" presStyleLbl="node1" presStyleIdx="0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7FF2573-11A8-4935-80BB-AD4FF4B0BB89}" type="pres">
      <dgm:prSet presAssocID="{B4AA16E9-D2FE-4752-9BAB-366051CC16FD}" presName="item2" presStyleLbl="node1" presStyleIdx="1" presStyleCnt="2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5C609B2-7576-4D50-8FCD-8F6F93E8E4B6}" type="pres">
      <dgm:prSet presAssocID="{1D572415-1543-480D-A6A5-19309A8A8E0D}" presName="funnel" presStyleLbl="trAlignAcc1" presStyleIdx="0" presStyleCnt="1"/>
      <dgm:spPr/>
    </dgm:pt>
  </dgm:ptLst>
  <dgm:cxnLst>
    <dgm:cxn modelId="{F0C7B147-98D7-42C5-BE27-F9416B717F41}" srcId="{1D572415-1543-480D-A6A5-19309A8A8E0D}" destId="{B4AA16E9-D2FE-4752-9BAB-366051CC16FD}" srcOrd="2" destOrd="0" parTransId="{81B6D747-FCD4-44FB-A4BB-BD6045973B12}" sibTransId="{01414706-E5F1-43FE-9F31-3E23016D458A}"/>
    <dgm:cxn modelId="{D0223927-3F97-4A25-8794-0C7E236C1398}" srcId="{1D572415-1543-480D-A6A5-19309A8A8E0D}" destId="{249E04F8-C3B8-4E2D-9C49-A64FBE70EDED}" srcOrd="1" destOrd="0" parTransId="{B42E8FE2-BB01-4AAA-AF9A-1A3602D02704}" sibTransId="{416BD8BB-7752-4672-8B8D-62DC0595A7DA}"/>
    <dgm:cxn modelId="{9DCB18EC-821A-4558-ADDA-03593FBBD574}" type="presOf" srcId="{1D572415-1543-480D-A6A5-19309A8A8E0D}" destId="{45C3729F-71C6-4F62-A637-8A5DAEA5D86D}" srcOrd="0" destOrd="0" presId="urn:microsoft.com/office/officeart/2005/8/layout/funnel1"/>
    <dgm:cxn modelId="{6EC79895-CF7E-40B7-BA0C-6D0385DCF650}" type="presOf" srcId="{B4AA16E9-D2FE-4752-9BAB-366051CC16FD}" destId="{034C8D08-D90F-4D1A-8A95-407915CEFCBF}" srcOrd="0" destOrd="0" presId="urn:microsoft.com/office/officeart/2005/8/layout/funnel1"/>
    <dgm:cxn modelId="{23AC0726-02A7-4BA8-9371-E403BB666839}" type="presOf" srcId="{EEB7130B-CF67-43BD-9BA5-BC0810802DD3}" destId="{07FF2573-11A8-4935-80BB-AD4FF4B0BB89}" srcOrd="0" destOrd="0" presId="urn:microsoft.com/office/officeart/2005/8/layout/funnel1"/>
    <dgm:cxn modelId="{BF98ADFB-39CD-4423-83C8-9B7884CF12A3}" srcId="{1D572415-1543-480D-A6A5-19309A8A8E0D}" destId="{EEB7130B-CF67-43BD-9BA5-BC0810802DD3}" srcOrd="0" destOrd="0" parTransId="{8F3BA826-7A0A-448F-9100-4405E4B4DBCE}" sibTransId="{F90F371E-53FE-4FD8-9F0A-4232E191DE95}"/>
    <dgm:cxn modelId="{1A620D64-5B3C-4D85-A24A-C5972BF2964F}" type="presOf" srcId="{249E04F8-C3B8-4E2D-9C49-A64FBE70EDED}" destId="{9137A061-FA6F-4E60-BE8F-411187B36BD3}" srcOrd="0" destOrd="0" presId="urn:microsoft.com/office/officeart/2005/8/layout/funnel1"/>
    <dgm:cxn modelId="{DD3C1308-7B4D-419B-927F-BA84364C83DB}" type="presParOf" srcId="{45C3729F-71C6-4F62-A637-8A5DAEA5D86D}" destId="{1E2A69D0-05A0-4D3E-BBE5-C72CBFDE966E}" srcOrd="0" destOrd="0" presId="urn:microsoft.com/office/officeart/2005/8/layout/funnel1"/>
    <dgm:cxn modelId="{ABB1F97B-E0E5-41DC-9214-0C55FB87BCD8}" type="presParOf" srcId="{45C3729F-71C6-4F62-A637-8A5DAEA5D86D}" destId="{AEBC9CB9-2A08-43B8-8BA5-E70143690A38}" srcOrd="1" destOrd="0" presId="urn:microsoft.com/office/officeart/2005/8/layout/funnel1"/>
    <dgm:cxn modelId="{2C537C87-B641-4389-B4F9-CC79C6D9CFD7}" type="presParOf" srcId="{45C3729F-71C6-4F62-A637-8A5DAEA5D86D}" destId="{034C8D08-D90F-4D1A-8A95-407915CEFCBF}" srcOrd="2" destOrd="0" presId="urn:microsoft.com/office/officeart/2005/8/layout/funnel1"/>
    <dgm:cxn modelId="{426ED9CF-4C0D-4CEB-A016-0FA0AF17BD1C}" type="presParOf" srcId="{45C3729F-71C6-4F62-A637-8A5DAEA5D86D}" destId="{9137A061-FA6F-4E60-BE8F-411187B36BD3}" srcOrd="3" destOrd="0" presId="urn:microsoft.com/office/officeart/2005/8/layout/funnel1"/>
    <dgm:cxn modelId="{613C91DF-5A86-4124-BF69-823911CC1923}" type="presParOf" srcId="{45C3729F-71C6-4F62-A637-8A5DAEA5D86D}" destId="{07FF2573-11A8-4935-80BB-AD4FF4B0BB89}" srcOrd="4" destOrd="0" presId="urn:microsoft.com/office/officeart/2005/8/layout/funnel1"/>
    <dgm:cxn modelId="{D823CE8B-D787-4EA9-8544-78FCD5989358}" type="presParOf" srcId="{45C3729F-71C6-4F62-A637-8A5DAEA5D86D}" destId="{85C609B2-7576-4D50-8FCD-8F6F93E8E4B6}" srcOrd="5" destOrd="0" presId="urn:microsoft.com/office/officeart/2005/8/layout/funnel1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funnel1">
  <dgm:title val=""/>
  <dgm:desc val=""/>
  <dgm:catLst>
    <dgm:cat type="relationship" pri="2000"/>
    <dgm:cat type="process" pri="27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3">
          <dgm:prSet phldr="1"/>
        </dgm:pt>
        <dgm:pt modelId="4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chMax val="4"/>
      <dgm:resizeHandles val="exact"/>
    </dgm:varLst>
    <dgm:alg type="composite">
      <dgm:param type="ar" val="1.25"/>
    </dgm:alg>
    <dgm:shape xmlns:r="http://schemas.openxmlformats.org/officeDocument/2006/relationships" r:blip="">
      <dgm:adjLst/>
    </dgm:shape>
    <dgm:presOf/>
    <dgm:choose name="Name1">
      <dgm:if name="Name2" axis="ch" ptType="node" func="cnt" op="equ" val="2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w" for="ch" forName="item1" refType="w" fact="0.35"/>
          <dgm:constr type="h" for="ch" forName="item1" refType="w" fact="0.35"/>
          <dgm:constr type="t" for="ch" forName="item1" refType="h" fact="0.05"/>
          <dgm:constr type="l" for="ch" forName="item1" refType="w" fact="0.125"/>
          <dgm:constr type="primFontSz" for="ch" forName="item1" op="equ" val="65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if>
      <dgm:else name="Name3">
        <dgm:constrLst>
          <dgm:constr type="w" for="ch" forName="ellipse" refType="w" fact="0.645"/>
          <dgm:constr type="h" for="ch" forName="ellipse" refType="h" fact="0.28"/>
          <dgm:constr type="t" for="ch" forName="ellipse" refType="w" fact="0.0275"/>
          <dgm:constr type="l" for="ch" forName="ellipse" refType="w" fact="0.0265"/>
          <dgm:constr type="w" for="ch" forName="arrow1" refType="w" fact="0.125"/>
          <dgm:constr type="h" for="ch" forName="arrow1" refType="h" fact="0.1"/>
          <dgm:constr type="t" for="ch" forName="arrow1" refType="h" fact="0.72"/>
          <dgm:constr type="l" for="ch" forName="arrow1" refType="w" fact="0.2875"/>
          <dgm:constr type="w" for="ch" forName="rectangle" refType="w" fact="0.6"/>
          <dgm:constr type="h" for="ch" forName="rectangle" refType="w" refFor="ch" refForName="rectangle" fact="0.25"/>
          <dgm:constr type="t" for="ch" forName="rectangle" refType="h" fact="0.8"/>
          <dgm:constr type="l" for="ch" forName="rectangle" refType="w" fact="0.05"/>
          <dgm:constr type="primFontSz" for="ch" forName="rectangle" val="65"/>
          <dgm:constr type="w" for="ch" forName="item1" refType="w" fact="0.225"/>
          <dgm:constr type="h" for="ch" forName="item1" refType="w" fact="0.225"/>
          <dgm:constr type="t" for="ch" forName="item1" refType="h" fact="0.336"/>
          <dgm:constr type="l" for="ch" forName="item1" refType="w" fact="0.261"/>
          <dgm:constr type="primFontSz" for="ch" forName="item1" val="65"/>
          <dgm:constr type="w" for="ch" forName="item2" refType="w" fact="0.225"/>
          <dgm:constr type="h" for="ch" forName="item2" refType="w" fact="0.225"/>
          <dgm:constr type="t" for="ch" forName="item2" refType="h" fact="0.125"/>
          <dgm:constr type="l" for="ch" forName="item2" refType="w" fact="0.1"/>
          <dgm:constr type="primFontSz" for="ch" forName="item2" refType="primFontSz" refFor="ch" refForName="item1" op="equ"/>
          <dgm:constr type="w" for="ch" forName="item3" refType="w" fact="0.225"/>
          <dgm:constr type="h" for="ch" forName="item3" refType="w" fact="0.225"/>
          <dgm:constr type="t" for="ch" forName="item3" refType="h" fact="0.057"/>
          <dgm:constr type="l" for="ch" forName="item3" refType="w" fact="0.33"/>
          <dgm:constr type="primFontSz" for="ch" forName="item3" refType="primFontSz" refFor="ch" refForName="item1" op="equ"/>
          <dgm:constr type="w" for="ch" forName="funnel" refType="w" fact="0.7"/>
          <dgm:constr type="h" for="ch" forName="funnel" refType="h" fact="0.7"/>
          <dgm:constr type="t" for="ch" forName="funnel"/>
          <dgm:constr type="l" for="ch" forName="funnel"/>
        </dgm:constrLst>
      </dgm:else>
    </dgm:choose>
    <dgm:ruleLst/>
    <dgm:choose name="Name4">
      <dgm:if name="Name5" axis="ch" ptType="node" func="cnt" op="gte" val="1">
        <dgm:layoutNode name="ellipse" styleLbl="trBgShp">
          <dgm:alg type="sp"/>
          <dgm:shape xmlns:r="http://schemas.openxmlformats.org/officeDocument/2006/relationships" type="ellipse" r:blip="">
            <dgm:adjLst/>
          </dgm:shape>
          <dgm:presOf/>
          <dgm:constrLst/>
          <dgm:ruleLst/>
        </dgm:layoutNode>
        <dgm:layoutNode name="arrow1" styleLbl="fgShp">
          <dgm:alg type="sp"/>
          <dgm:shape xmlns:r="http://schemas.openxmlformats.org/officeDocument/2006/relationships" type="downArrow" r:blip="">
            <dgm:adjLst/>
          </dgm:shape>
          <dgm:presOf/>
          <dgm:constrLst/>
          <dgm:ruleLst/>
        </dgm:layoutNode>
        <dgm:layoutNode name="rectangle" styleLbl="revTx">
          <dgm:varLst>
            <dgm:bulletEnabled val="1"/>
          </dgm:varLst>
          <dgm:alg type="tx">
            <dgm:param type="txAnchorHorzCh" val="ctr"/>
          </dgm:alg>
          <dgm:shape xmlns:r="http://schemas.openxmlformats.org/officeDocument/2006/relationships" type="rect" r:blip="">
            <dgm:adjLst/>
          </dgm:shape>
          <dgm:choose name="Name6">
            <dgm:if name="Name7" axis="ch" ptType="node" func="cnt" op="equ" val="1">
              <dgm:presOf axis="ch desOrSelf" ptType="node node" st="1 1" cnt="1 0"/>
            </dgm:if>
            <dgm:if name="Name8" axis="ch" ptType="node" func="cnt" op="equ" val="2">
              <dgm:presOf axis="ch desOrSelf" ptType="node node" st="2 1" cnt="1 0"/>
            </dgm:if>
            <dgm:if name="Name9" axis="ch" ptType="node" func="cnt" op="equ" val="3">
              <dgm:presOf axis="ch desOrSelf" ptType="node node" st="3 1" cnt="1 0"/>
            </dgm:if>
            <dgm:else name="Name10">
              <dgm:presOf axis="ch desOrSelf" ptType="node node" st="4 1" cnt="1 0"/>
            </dgm:else>
          </dgm:choose>
          <dgm:constrLst/>
          <dgm:ruleLst>
            <dgm:rule type="primFontSz" val="5" fact="NaN" max="NaN"/>
          </dgm:ruleLst>
        </dgm:layoutNode>
        <dgm:forEach name="Name11" axis="ch" ptType="node" st="2" cnt="1">
          <dgm:layoutNode name="item1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2">
              <dgm:if name="Name13" axis="root ch" ptType="all node" func="cnt" op="equ" val="1">
                <dgm:presOf/>
              </dgm:if>
              <dgm:if name="Name14" axis="root ch" ptType="all node" func="cnt" op="equ" val="2">
                <dgm:presOf axis="root ch desOrSelf" ptType="all node node" st="1 1 1" cnt="0 1 0"/>
              </dgm:if>
              <dgm:if name="Name15" axis="root ch" ptType="all node" func="cnt" op="equ" val="3">
                <dgm:presOf axis="root ch desOrSelf" ptType="all node node" st="1 2 1" cnt="0 1 0"/>
              </dgm:if>
              <dgm:else name="Name16">
                <dgm:presOf axis="root ch desOrSelf" ptType="all node node" st="1 3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17" axis="ch" ptType="node" st="3" cnt="1">
          <dgm:layoutNode name="item2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18">
              <dgm:if name="Name19" axis="root ch" ptType="all node" func="cnt" op="equ" val="1">
                <dgm:presOf/>
              </dgm:if>
              <dgm:if name="Name20" axis="root ch" ptType="all node" func="cnt" op="equ" val="2">
                <dgm:presOf/>
              </dgm:if>
              <dgm:if name="Name21" axis="root ch" ptType="all node" func="cnt" op="equ" val="3">
                <dgm:presOf axis="root ch desOrSelf" ptType="all node node" st="1 1 1" cnt="0 1 0"/>
              </dgm:if>
              <dgm:else name="Name22">
                <dgm:presOf axis="root ch desOrSelf" ptType="all node node" st="1 2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forEach name="Name23" axis="ch" ptType="node" st="4" cnt="1">
          <dgm:layoutNode name="item3" styleLbl="node1">
            <dgm:varLst>
              <dgm:bulletEnabled val="1"/>
            </dgm:varLst>
            <dgm:alg type="tx">
              <dgm:param type="txAnchorVertCh" val="mid"/>
            </dgm:alg>
            <dgm:shape xmlns:r="http://schemas.openxmlformats.org/officeDocument/2006/relationships" type="ellipse" r:blip="">
              <dgm:adjLst/>
            </dgm:shape>
            <dgm:choose name="Name24">
              <dgm:if name="Name25" axis="root ch" ptType="all node" func="cnt" op="equ" val="1">
                <dgm:presOf/>
              </dgm:if>
              <dgm:if name="Name26" axis="root ch" ptType="all node" func="cnt" op="equ" val="2">
                <dgm:presOf/>
              </dgm:if>
              <dgm:if name="Name27" axis="root ch" ptType="all node" func="cnt" op="equ" val="3">
                <dgm:presOf/>
              </dgm:if>
              <dgm:else name="Name28">
                <dgm:presOf axis="root ch desOrSelf" ptType="all node node" st="1 1 1" cnt="0 1 0"/>
              </dgm:else>
            </dgm:choose>
            <dgm:constrLst>
              <dgm:constr type="tMarg" refType="primFontSz" fact="0.1"/>
              <dgm:constr type="bMarg" refType="primFontSz" fact="0.1"/>
              <dgm:constr type="lMarg" refType="primFontSz" fact="0.1"/>
              <dgm:constr type="rMarg" refType="primFontSz" fact="0.1"/>
            </dgm:constrLst>
            <dgm:ruleLst>
              <dgm:rule type="primFontSz" val="5" fact="NaN" max="NaN"/>
            </dgm:ruleLst>
          </dgm:layoutNode>
        </dgm:forEach>
        <dgm:layoutNode name="funnel" styleLbl="trAlignAcc1">
          <dgm:alg type="sp"/>
          <dgm:shape xmlns:r="http://schemas.openxmlformats.org/officeDocument/2006/relationships" type="funnel" r:blip="">
            <dgm:adjLst/>
          </dgm:shape>
          <dgm:presOf/>
          <dgm:constrLst/>
          <dgm:ruleLst/>
        </dgm:layoutNode>
      </dgm:if>
      <dgm:else name="Name29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7969-C20B-49A7-AE7D-35A9657CAE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06351-06FD-467F-AF3A-2E7DE17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89A5-EE34-48C3-9783-AFF98742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2F6FB-BFE8-4E6B-BF3D-F88A5F238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B1E37-B818-41ED-B6E7-D5C09CDE2A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BF1B03-EA91-4ECA-9BA6-30A918A521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9D551-A591-409E-BC21-444A35726B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18B45D-E190-41FD-8754-EEFA7F9600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84EC1-144F-4008-AE52-145A95B49A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02AC2-68DB-4B47-9BAE-327680E4D2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0BED0-DABC-4238-8B0F-300200407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575F-F609-4E2E-BE58-B3AAAA5B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64093-D063-4E30-ABE7-0DCCE24C26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D1449-E7F5-4034-A933-CF843BB431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2BB07-8206-4434-BC90-5FD23B0DC9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38114-D0DE-4C66-87F5-BC1B2CC093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275A5-06A2-4B7E-82BB-82B570DF24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023C4D-0FB8-4DA4-8459-6C0C93C0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64456-8C5A-4C28-9740-1E1D31DA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8E031-B085-4339-9842-47A2D174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FA1A3D-98F4-4939-9E38-B08E2968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1F4C94-CBA9-4CD7-AAB0-A8355ECE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E406-2F3D-4D36-A8A7-DA326A29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11BE1D-CB68-42D9-9634-C6217FEE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D32A9C-C68A-4932-8F8E-65EA0A32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F50A6C-0C1C-44C3-B7C4-8E528137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2CA8D-2C30-4CC5-A4A7-9E1F2B76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9AD25-CC96-4E24-8619-0FFE0DC2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44EE1-9F8C-49B0-BB00-00728911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5BC0A-D309-48B2-8BCF-DF0293DB1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B734-5FFA-4A1C-9D12-C47D73A1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4119-5536-427E-9862-5F8C6E60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467B-020B-4E18-9751-0CEDBDF7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BE90-DD4F-4DA5-B094-D535957B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0F0A9-5887-400F-86B2-4282DC98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0893F-A7A6-4635-BA2C-C788CD0B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7BA692-7532-4B1F-8929-8E91141F764B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Footer Placeholder 4"/>
          <p:cNvSpPr/>
          <p:nvPr/>
        </p:nvSpPr>
        <p:spPr>
          <a:xfrm>
            <a:off x="3844440" y="6629400"/>
            <a:ext cx="482256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1" lang="en-US" sz="1600" spc="-1" strike="noStrike" cap="all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2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3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95C977-CA71-4FDF-ACDA-D596DDBAD282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7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279F30-D036-495B-AF6B-ED98EAB92408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fa-IR" sz="4400" spc="-52" strike="noStrike">
                <a:solidFill>
                  <a:srgbClr val="1a2884"/>
                </a:solidFill>
                <a:latin typeface="Calibri Light"/>
                <a:cs typeface="B Titr"/>
              </a:rPr>
              <a:t>کیف نجات خانواد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45" name="PlaceHolder 3"/>
          <p:cNvSpPr>
            <a:spLocks noGrp="1"/>
          </p:cNvSpPr>
          <p:nvPr>
            <p:ph type="ftr" idx="8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1F67-B47F-41B2-B4A6-B988D88AD5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شرایط نگهداری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جای خشک و خنک: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1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ا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درج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زدیک مسیر خروج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خودرو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در پوشش ضد آب باش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57160" indent="-2286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ک کردن کیف در زمانهای منظم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Image result for Emergency family kit in car"/>
          <p:cNvPicPr/>
          <p:nvPr/>
        </p:nvPicPr>
        <p:blipFill>
          <a:blip r:embed="rId1"/>
          <a:stretch/>
        </p:blipFill>
        <p:spPr>
          <a:xfrm>
            <a:off x="335520" y="2205000"/>
            <a:ext cx="4874040" cy="3258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FE32C-F2C9-436C-BBF5-530B007BC4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Content Placeholder 3" descr=""/>
          <p:cNvPicPr/>
          <p:nvPr/>
        </p:nvPicPr>
        <p:blipFill>
          <a:blip r:embed="rId1"/>
          <a:stretch/>
        </p:blipFill>
        <p:spPr>
          <a:xfrm>
            <a:off x="2303640" y="1766520"/>
            <a:ext cx="7670520" cy="4314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CAB5A-1AA9-44A0-BEA3-9CB3B9EA2C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49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A24CE-4093-408B-AED8-A80EB6FD3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نحوه تهیه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هیه چک لیستی از وسایل مورد نیاز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ماده کردن وسایل مطابق با لیست تهیه شد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سته بندی همه وسایل و جاگذاری در کیف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25560" indent="-743040" algn="r" rtl="1">
              <a:lnSpc>
                <a:spcPct val="20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قابل شستشو و قابل حمل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rcRect l="-265" t="0" r="0" b="0"/>
          <a:stretch/>
        </p:blipFill>
        <p:spPr>
          <a:xfrm>
            <a:off x="638280" y="1805040"/>
            <a:ext cx="4196160" cy="418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1A16F-9371-4538-8D1D-50777B1622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824878850"/>
              </p:ext>
            </p:extLst>
          </p:nvPr>
        </p:nvGraphicFramePr>
        <p:xfrm>
          <a:off x="1557360" y="223920"/>
          <a:ext cx="8966520" cy="656568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pic>
        <p:nvPicPr>
          <p:cNvPr id="155" name="Picture 5" descr=""/>
          <p:cNvPicPr/>
          <p:nvPr/>
        </p:nvPicPr>
        <p:blipFill>
          <a:blip r:embed="rId5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7FE469-29B9-4162-9398-9D1FC89B68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83360" y="1196640"/>
            <a:ext cx="718488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آب برای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به ازای هر فرد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7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لیتر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غذا غیر فاسدشدنی  برای حداقل 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روز : کنسرو، نان خشک و  بیسکویت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عبه کمکهای اولی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ادیو و باتر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2"/>
          <a:stretch/>
        </p:blipFill>
        <p:spPr>
          <a:xfrm>
            <a:off x="686880" y="4094280"/>
            <a:ext cx="3198600" cy="2228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3"/>
          <a:stretch/>
        </p:blipFill>
        <p:spPr>
          <a:xfrm>
            <a:off x="686880" y="1535040"/>
            <a:ext cx="3198600" cy="248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76EBB-C7CD-450D-A0E9-A70012AC51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9520" y="1380600"/>
            <a:ext cx="11088720" cy="509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8360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اصلی شامل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راغ قوه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وت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 تلفن همراه با شارژر و باتری پشتیبان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سک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در مسافرتی یا مشمع و نوار چسب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ب بازکن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31320" indent="-747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 startAt="8"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قشه های محلی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886680" y="1671120"/>
            <a:ext cx="3264120" cy="451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448B4-C1B7-47C3-8F1A-B29AFFA5D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 شخصی:صابون، ضد عفونی کننده دست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وسایل بهداشتی مورد نیاز بانوان، کودکان و سالمندان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داروهای بدون نسخه: مسکن، ضد تهوع و اسهال، داروهای ضداسید معده، پمادهای موضعی و ...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916200" indent="-735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000" spc="-1" strike="noStrike">
                <a:solidFill>
                  <a:srgbClr val="404040"/>
                </a:solidFill>
                <a:latin typeface="Calibri"/>
                <a:cs typeface="B Nazanin"/>
              </a:rPr>
              <a:t>کیسه خواب یا پتو گرم برای هر شخص</a:t>
            </a:r>
            <a:endParaRPr b="1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803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"/>
          <p:cNvPicPr/>
          <p:nvPr/>
        </p:nvPicPr>
        <p:blipFill>
          <a:blip r:embed="rId2"/>
          <a:stretch/>
        </p:blipFill>
        <p:spPr>
          <a:xfrm>
            <a:off x="425880" y="1759680"/>
            <a:ext cx="2854080" cy="221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30D2D-4F37-4D08-A2E3-692814F1AD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54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25880" y="1332360"/>
            <a:ext cx="11125800" cy="4896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8000"/>
          </a:bodyPr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قلام تکمیلی شامل: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لباس متناسب با آب و هوا و کفشهای محکم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ناد مهم: کپی بیمه نامه ها ، شناسنامه و سوابق حساب بانکی و ... 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پسول آتش نشانی کوچک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اسباب بازی و سرگرمی برای گودکان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848880" indent="-68148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 Light"/>
              <a:buAutoNum type="arabicPeriod"/>
              <a:tabLst>
                <a:tab algn="l" pos="0"/>
              </a:tabLst>
            </a:pPr>
            <a:r>
              <a:rPr b="0" lang="fa-IR" sz="3700" spc="-1" strike="noStrike">
                <a:solidFill>
                  <a:srgbClr val="404040"/>
                </a:solidFill>
                <a:latin typeface="Calibri"/>
                <a:cs typeface="B Nazanin"/>
              </a:rPr>
              <a:t>کتاب های مورد علاقه : ادعیه</a:t>
            </a:r>
            <a:endParaRPr b="1" lang="en-US" sz="3700" spc="-1" strike="noStrike">
              <a:solidFill>
                <a:srgbClr val="404040"/>
              </a:solidFill>
              <a:latin typeface="Calibri"/>
            </a:endParaRPr>
          </a:p>
          <a:p>
            <a:pPr marL="16704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2"/>
          <a:stretch/>
        </p:blipFill>
        <p:spPr>
          <a:xfrm>
            <a:off x="1079280" y="3815280"/>
            <a:ext cx="2878560" cy="22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95CC6-6D7B-42D2-A364-E2DCA0C19E8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c00000"/>
                </a:solidFill>
                <a:latin typeface="Calibri Light"/>
                <a:cs typeface="B Titr"/>
              </a:rPr>
              <a:t>محتویات کی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ubtitle 1"/>
          <p:cNvSpPr/>
          <p:nvPr/>
        </p:nvSpPr>
        <p:spPr>
          <a:xfrm>
            <a:off x="2882880" y="1533960"/>
            <a:ext cx="9070560" cy="44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2000"/>
          </a:bodyPr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r>
              <a:rPr b="1" lang="fa-IR" sz="2800" spc="77" strike="noStrike">
                <a:solidFill>
                  <a:srgbClr val="000000"/>
                </a:solidFill>
                <a:latin typeface="Calibri"/>
                <a:cs typeface="B Nazanin"/>
              </a:rPr>
              <a:t>تجهیزات کنترل قند خون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4960" algn="r" rtl="1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سولی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رن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ومت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وار تست قن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گلوکاگو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کیف یخ خش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07160" indent="-227160" algn="r" rtl="1">
              <a:lnSpc>
                <a:spcPct val="100000"/>
              </a:lnSpc>
              <a:spcBef>
                <a:spcPts val="1001"/>
              </a:spcBef>
              <a:buClr>
                <a:srgbClr val="1cade4"/>
              </a:buClr>
              <a:buSzPct val="80000"/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نبه الکل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34320"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Image result for ‫ویال گلوکاگون‬‎"/>
          <p:cNvPicPr/>
          <p:nvPr/>
        </p:nvPicPr>
        <p:blipFill>
          <a:blip r:embed="rId1"/>
          <a:stretch/>
        </p:blipFill>
        <p:spPr>
          <a:xfrm>
            <a:off x="893520" y="4435560"/>
            <a:ext cx="3860280" cy="1987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Image result for ‫دستگاه گلوکومتر‬‎"/>
          <p:cNvPicPr/>
          <p:nvPr/>
        </p:nvPicPr>
        <p:blipFill>
          <a:blip r:embed="rId2"/>
          <a:stretch/>
        </p:blipFill>
        <p:spPr>
          <a:xfrm>
            <a:off x="1079280" y="1886760"/>
            <a:ext cx="2995920" cy="1962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"/>
          <p:cNvPicPr/>
          <p:nvPr/>
        </p:nvPicPr>
        <p:blipFill>
          <a:blip r:embed="rId3"/>
          <a:stretch/>
        </p:blipFill>
        <p:spPr>
          <a:xfrm>
            <a:off x="10803960" y="54720"/>
            <a:ext cx="1261800" cy="12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682F2-CFC9-4DBE-9E8C-3BFC74AA8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580</TotalTime>
  <Application>LibreOffice/7.4.7.2$Linux_X86_64 LibreOffice_project/40$Build-2</Application>
  <AppVersion>15.0000</AppVersion>
  <Words>267</Words>
  <Paragraphs>6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5:01Z</dcterms:modified>
  <cp:revision>1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11</vt:r8>
  </property>
</Properties>
</file>