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5F88D-D0EF-4981-BDE9-BC0E611083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73E6-DD03-4D07-84AD-87EF4789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ABE42-EEB3-4871-8937-8A7F315A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4CC88-8C1C-4505-AA4B-8494C7BB3D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20BC9-776C-43C4-9CC8-1E9E635945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2D628-2011-403B-B9CD-7C54F8698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0064ED-0D0F-4965-89BA-93BB937084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18DD8-0DE9-4ECF-B790-5D272F5F26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629CE-FB39-4CF0-A16A-1A29EC80A8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8E60F-DF83-452A-9BB1-0AC787299F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BEAE7-8B90-436C-88E1-0209F14B51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FBF0-DFDC-4C9C-A9C4-C67CC3BC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91221-2869-4327-ABBC-F73999BE9D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7F3E9-AB3A-4FDD-964E-8790B14794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F8F7B-1452-4ED2-9912-0F37EE6968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ECEE7-1D5D-456C-B494-899AE4BF47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4E31E-40FD-4044-B662-41E5B8A47D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F92-FC5C-4DAB-84DF-D18B4942E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1E8A-8B68-40FD-B539-71A4F34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088F-88D7-4862-BFAD-CC4A369E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A9F9-2350-4AE4-B40F-2FAD8B93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E0C5-8E44-40D9-BE62-FB1CF238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DC87-8308-497D-8DA3-62375E22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D12-8291-4365-B4C7-6CF7B4A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26E7-AE2C-451B-855A-D8E4C572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E4EA-5CBF-419A-82A3-15D12CC5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EBB1-1F43-4AB6-BCC0-8FE90A1E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A02A-7F65-425B-BDEC-CFA95DCB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838F-C1EE-49CA-85B6-BB47D2A8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91B-4C73-46EE-BF2A-A5ABC298D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C3DF-94F8-48ED-9AF7-394595E81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9FD8C-021C-42B7-87CD-4B2946F3A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2B920-F483-4B17-8FE1-726D4D33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4722A-F02B-4998-8C4A-CAD5529C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7275E-FC9E-4A28-AE63-A22DF2CA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4392F-4A4C-44D9-A51E-584D7703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36B9-2CF3-4E49-AEA8-5EE089F6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1508-EAE5-418A-9FC8-9B7969B4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44EED-F1BC-4D79-B6ED-CA3C1197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893B6-A6D8-46A9-8B32-209885E8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7E52A-ABA7-47A7-B54D-E8EC5F6C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1533-F150-41EE-AF24-A1A3A065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4BA1B-2897-40F2-828C-777BEDF79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A54C0-C8A2-4605-9821-5F36D2E8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F8C8B-D28C-4124-86D9-BA8ADA4A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A1C9-81CB-4152-BC7B-566202D2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785B2-FB40-4712-99AA-C9DE36B5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16A15-141F-47E8-91B5-EB5375D9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BB382C-DD0F-4F96-A4F1-5A3872F5023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B33F5D-E852-4ED2-8DED-66A04AC7DFEF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body"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362696-20F1-4BC4-8C05-A6CCC182473C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ftr" idx="7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3"/>
          <a:stretch/>
        </p:blipFill>
        <p:spPr>
          <a:xfrm>
            <a:off x="10929960" y="0"/>
            <a:ext cx="1261800" cy="126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144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8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97C461-3ADC-49D3-A0DC-EF6299B4BA1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10932120" y="4716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نحوه امدادخواهی در بلایا و حوادث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9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0968-04F5-4814-8487-BE3CF79AB1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pic>
        <p:nvPicPr>
          <p:cNvPr id="222" name="Content Placeholder 10" descr=""/>
          <p:cNvPicPr/>
          <p:nvPr/>
        </p:nvPicPr>
        <p:blipFill>
          <a:blip r:embed="rId2"/>
          <a:stretch/>
        </p:blipFill>
        <p:spPr>
          <a:xfrm>
            <a:off x="3089880" y="1554120"/>
            <a:ext cx="6451560" cy="43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9E481-ED0E-4348-8037-2C51A0C216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B4D1C-3072-4F77-BE3B-46BF470F74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شماره تلفن های ضروری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19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SG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rcRect l="0" t="20962" r="0" b="8516"/>
          <a:stretch/>
        </p:blipFill>
        <p:spPr>
          <a:xfrm>
            <a:off x="1809720" y="2589840"/>
            <a:ext cx="8572320" cy="202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4F89-359C-4E34-951D-9A7FAF571A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873680" y="1553400"/>
            <a:ext cx="667800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یماری ها و حوادث اورژانسی به مواردی گفته می شوند که در صورت عدم ارائه به موقع اقدامات امدادی – درمانی، منجر به صدمات عضوی و جانی و نیز مشکلات روانی بیمار می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قط در موارد فوری و اورژانس می توانید با این شماره تلفن تماس بگیر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9680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وجود خطر و صدمات عضوی و جانی و یا در خطر بودن سلامت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153360" y="1958400"/>
            <a:ext cx="4403520" cy="3447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2"/>
          <a:stretch/>
        </p:blipFill>
        <p:spPr>
          <a:xfrm>
            <a:off x="10920960" y="4284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C915D-0116-46CB-848A-13F21A07F1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7280" y="286560"/>
            <a:ext cx="10058040" cy="145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9728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61000"/>
          </a:bodyPr>
          <a:p>
            <a:pPr marL="7848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قل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chemeClr val="dk1"/>
                </a:solidFill>
                <a:latin typeface="Calibri"/>
                <a:cs typeface="B Nazanin"/>
              </a:rPr>
              <a:t>درد و سنگینی یا فشار قفسه سینه همراه با تهوع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ستفراغ، عرق س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نگی نفس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احساس سوزش در ناحیه پشت جناغ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476640" indent="-398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بیماریکه سابقه بیماری قلبی دارد در صورت داشتن هریک از علائم فوق با اورژانس 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chemeClr val="dk1"/>
                </a:solidFill>
                <a:latin typeface="Calibri"/>
              </a:rPr>
              <a:t> تماس بگی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17920" y="1845720"/>
            <a:ext cx="4937400" cy="4023000"/>
          </a:xfrm>
          <a:prstGeom prst="rect">
            <a:avLst/>
          </a:prstGeom>
          <a:solidFill>
            <a:schemeClr val="lt1"/>
          </a:solidFill>
          <a:ln w="15840">
            <a:solidFill>
              <a:srgbClr val="62a39f"/>
            </a:solidFill>
            <a:round/>
          </a:ln>
        </p:spPr>
        <p:txBody>
          <a:bodyPr lIns="0" rIns="0" anchor="t">
            <a:normAutofit fontScale="98000"/>
          </a:bodyPr>
          <a:p>
            <a:pPr marL="12600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اورژانس های ت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900" spc="-1" strike="noStrike">
                <a:solidFill>
                  <a:schemeClr val="dk1"/>
                </a:solidFill>
                <a:latin typeface="Calibri"/>
                <a:cs typeface="B Nazanin"/>
              </a:rPr>
              <a:t>تنگی نفس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خس خس سینه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766080" indent="-639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900" spc="-1" strike="noStrike">
                <a:solidFill>
                  <a:schemeClr val="dk1"/>
                </a:solidFill>
                <a:latin typeface="Calibri"/>
              </a:rPr>
              <a:t> کبودی لبها و بستر ناخنها</a:t>
            </a:r>
            <a:endParaRPr b="1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27440" indent="-127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0"/>
              </a:tabLst>
            </a:pPr>
            <a:r>
              <a:rPr b="1" lang="en-US" sz="28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BFAA-E46D-4083-8836-D3DE363054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چه زمانی با اورژانس 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 تماس بگیریم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823640" y="1271880"/>
            <a:ext cx="60955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تصادف با وسیله نقلی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قوط از بلن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سوخت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مسمومیت های دارویی و خودکش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غرق شد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گزیدگی 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ضرب و جرح(ضربه به جمجمه و ستون فقرات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برق گرفتگ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ریزش آو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09605-9F89-4577-8526-C1269BF20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35800" y="1553400"/>
            <a:ext cx="1131552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0" algn="ct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فرایند امداد خواهی و امداد رسانی از تماس با شماره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شروع شده و در مرحله تحویل بیمار به اولین مرکز درمانی پایان می پذیر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2" name="Picture 6" descr=""/>
          <p:cNvPicPr/>
          <p:nvPr/>
        </p:nvPicPr>
        <p:blipFill>
          <a:blip r:embed="rId1"/>
          <a:stretch/>
        </p:blipFill>
        <p:spPr>
          <a:xfrm>
            <a:off x="4300200" y="3287160"/>
            <a:ext cx="4030200" cy="2879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C5F64-9E35-4A90-9D5C-DDE37F329B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فرآیند امداد خواهی و امداد رسان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2249640" y="1565280"/>
            <a:ext cx="7289280" cy="47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43F58-1659-4859-AD5E-CA588E17FE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3200" spc="-52" strike="noStrike">
                <a:solidFill>
                  <a:srgbClr val="b40000"/>
                </a:solidFill>
                <a:latin typeface="Calibri Light"/>
                <a:cs typeface="B Titr"/>
              </a:rPr>
              <a:t>در هنگام تماس با اورژانس 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115</a:t>
            </a:r>
            <a:r>
              <a:rPr b="1" lang="en-US" sz="3200" spc="-52" strike="noStrike">
                <a:solidFill>
                  <a:srgbClr val="b40000"/>
                </a:solidFill>
                <a:latin typeface="Calibri Light"/>
              </a:rPr>
              <a:t> به چه مسائلی را باید رعایت کنیم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94760" y="1553400"/>
            <a:ext cx="11651040" cy="477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حفظ خونسر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پاسخگویی به سوالات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(در مورد سن، جنس و تعداد مصدومین ، سابقه ی بیماری، نحو ه ی بروز حادث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نشانی کامل و در صورت امکان نام یا شماره کوچه و خیابان 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اگر در مورد موقعیت مکانی خود مطمئن نیستید ، هراس به خود راه ندهید ،سعی کنید از افراد محلی واطرافیان موقیعت جغرافیایی محل را جویا شوید.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دادن اطلاعات در خصوص خطرات موجود در محل حادثه مثل وجود مواد سمی ، آسیب سیمهای برق یا وضعیت آب و هوا (مه یا جاده یخ زده)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بکار بستن توصیه های پزشکان و پرستاران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15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تا رسیدن اکیپ امدادی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175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000" spc="-1" strike="noStrike">
                <a:solidFill>
                  <a:srgbClr val="404040"/>
                </a:solidFill>
                <a:latin typeface="Calibri"/>
                <a:cs typeface="B Nazanin"/>
              </a:rPr>
              <a:t>شماره تلفن خودتان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6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6D6E6-CA89-4B1B-B14B-E877F7B9ED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627</TotalTime>
  <Application>LibreOffice/7.4.7.2$Linux_X86_64 LibreOffice_project/40$Build-2</Application>
  <AppVersion>15.0000</AppVersion>
  <Words>381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14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0</vt:r8>
  </property>
</Properties>
</file>