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E267A-62B2-49AD-8D6A-9D1B5E60C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293D-F660-4938-8BF1-16E30BFA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9BC2-AE7D-406B-84BD-32E0F8F0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6160-6BC8-46E8-862F-D4F802DD48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5EB9A-AB5E-4C42-8287-1C27BF239D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E0185-71C1-4136-8D11-53E4E34A60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C285A-A315-4511-B7D3-E0F319BDC2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DBEDF3-E0BC-42F6-99B5-4A7CF87144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B9C43-C834-4E6E-9AA5-C36EBD9741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1262C-A087-462B-B7C5-A36BFA81D86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0C1F1-E9A2-479A-B20F-BA154ABB15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17EF2-EB80-4475-8CCE-150E9603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E9933-A2BC-406B-92AC-F2887537A1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5DFBC-1D21-4378-97EE-FC9196D4A5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67F54-EBBF-43F9-8D7E-DE7CE45779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88C9D-80AD-4922-8CA6-4A6BF9EF9F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F7EBA7-3EC2-44F1-A1A3-DB4339F485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1976-5A4A-49EF-A010-2F10ABCE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CD960-9484-4B13-8253-0B18B566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20A7-174E-4D7F-904D-5F23CF99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EA46-664D-4CBE-ABD2-4FC83566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BE63-AE7E-4F4B-A527-79B10F58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73BF-8718-4382-A268-140954E4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5C25-3E8D-4D94-8B7B-59A6A22A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CC4A-DD9F-4EDD-BDEC-FC2F4C01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E40F-D2FE-46E2-BF44-6E129AE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CF2D-9187-42CB-8423-5B9EEC73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A261-3954-49F8-A130-FF79BA59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C0CD-6BD7-4248-A63D-67B42AE1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4786-6B9E-4833-8EA8-00C82ADE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7A2FAF-8E5C-47AE-A578-C6F3676D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1FE76-4D86-4023-AE08-54F23D10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A5C21-82F1-41D3-B1EF-4924091F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07CF-91A9-4257-AE55-B6220DF5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9818A-7536-4882-BE42-92CDE309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AD840E-8C65-4D5F-8EFF-5E293DC7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CC372-EB2F-48DD-9846-00BBE1A3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72A10-C7BE-4144-96D4-D17B1AF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BB8D84-62C4-403D-858F-296A19FC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E4CF6-C7AC-4FB1-9F06-76F16901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DEEA4E-13F6-41BB-85F9-81EB5C25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EAB9BE-91B9-42D8-81DB-D569EC78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7BEA78-8DEE-4BD4-9352-076A34D1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DAF8-49C7-4A3A-8C93-2908EEA63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5ED1D-E111-42E3-ACC5-2A561211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4218-E542-458C-A9C7-ECCCDE5E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0297-453B-46DE-B993-0305C65B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318B-8639-4CF3-A840-5A82719D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489F3B-E5F0-4934-8FF4-22ED080718A5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A11F77-FB75-4165-BAF6-50049499E046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0E33EB-55CE-453C-9310-598538A1285E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9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0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C4CF8B2-CAE5-4415-A1E8-FF5D574D9F9D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769A7-B59C-41BA-A933-79117AC688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F02DA-B55A-4253-BBC6-25B67D00EC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642960" y="1141920"/>
            <a:ext cx="10795320" cy="60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تومبيل‌ خود را در محلي‌ امن‌ و كاملاً بافاصله‌ نسبت‌ به‌ محل‌ حادثه‌ پارك‌ كن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چراغ‌هاي‌ خطر آن‌ را به‌ حالت‌ چشمك‌زن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یک‌باره از خودرو پیاده و  وارد جاده نشوی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عرض خیابان ندو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 rtl="1">
              <a:lnSpc>
                <a:spcPct val="200000"/>
              </a:lnSpc>
              <a:buClr>
                <a:srgbClr val="000000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شب‌، لباسي‌ بپوشيد يا چيزي‌ حمل‌ كنيد كه‌ روشن‌ يا منعكس‌كننده‌ نور باشد یا از چراغ‌قوه‌ استفاده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6010-DA28-4283-8130-3D36A30830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914400" y="1525680"/>
            <a:ext cx="10736640" cy="52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حداقل‌ به‌ فاصله‌ 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۴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متر از محل‌ حادثه‌ در هر دو طرف‌ آن‌، مثلث‌ يا چراغ‌ هشداردهنده‌ قرار ده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لافاصله با مرکز فوریت پلیس و اورژان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تماس بگیر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تماس با اورژانس تعداد مصدومان را اعلام کنی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به‌سرعت‌ تمام‌ مصدومان‌ را ارزيابي‌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اگر بيش‌ از يك‌ مصدوم‌ وجود دارد، ابتدا به‌ آن‌هایی‌ كه‌ ممكن‌ است‌ آسيب‌هاي‌ تهديدكننده‌ حيات‌ (مثل‌ سوختگي‌ يا زخم‌ شديد) داشته‌ باشند، رسيدگي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605880" y="2600280"/>
            <a:ext cx="3236400" cy="205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3659-CE4B-49CF-A9ED-446DC1123D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493200" y="1973880"/>
            <a:ext cx="1097244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مصدوم‌ را حركت‌ ندهيد مگر وقتی‌که‌ قطعاً ضرورت‌ داشته‌ باش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در صورت‌ امكان‌، مصدومان‌ را در همان‌ وضعيتي‌ كه‌ با آن‌ها مواجه‌ شديد، درمان‌ كني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800" spc="-1" strike="noStrike">
                <a:solidFill>
                  <a:srgbClr val="000000"/>
                </a:solidFill>
                <a:latin typeface="Calibri"/>
                <a:cs typeface="B Nazanin"/>
              </a:rPr>
              <a:t>تنها درصورتی‌که‌ مصدومي‌ درخطر باشد يا به‌منظور ارائه‌ درمان‌ نجات‌بخش‌، مي‌توانيد وي‌ را جابه‌جا كني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5F20-0CB8-4FC1-BC96-19F49F1B1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قدامات در حوادث ترافیک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932040" y="1696680"/>
            <a:ext cx="1070100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در مورد هر مصدومي‌ كه‌ در حوادث‌ رانندگي‌ آسیب‌دیده‌ است‌، هميشه‌ فرض‌ كنيد كه‌ آسيب‌ گردن‌ (نخاع‌) وجود دارد و سر مصدوم‌ را تا رسيدن‌ نيروهاي‌ كمكي‌، با دست‌ نگه‌داری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a-IR" sz="2400" spc="-1" strike="noStrike">
                <a:solidFill>
                  <a:srgbClr val="000000"/>
                </a:solidFill>
                <a:latin typeface="Calibri"/>
                <a:cs typeface="B Nazanin"/>
              </a:rPr>
              <a:t>محل‌ را به‌طور كامل‌ جستجو كنيد تا از مصدوماني‌ كه‌ به‌ مناطق‌ دورتر پرتاب‌شده‌اند يا از آن‌هایی‌ كه‌ به‌ خاطر منگي‌، بي‌هدف‌ حركت‌ كرده‌ و از محل‌ دور شده‌اند، غفلت‌ نكرده‌ باشي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A920-6C9E-4F18-96AD-0CD86FEE56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ftr" idx="12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fa-IR" sz="1400" spc="-1" strike="noStrike" cap="all">
                <a:solidFill>
                  <a:srgbClr val="ffffff"/>
                </a:solidFill>
                <a:latin typeface="Calibri"/>
                <a:cs typeface="B Nazanin"/>
              </a:rPr>
              <a:t>کارگاه آمادگی در برابر زلزله ( فرد – خانواده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SG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405DFA-F988-41E7-9E89-69B9BFD50A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10" name="Content Placeholder 7" descr=""/>
          <p:cNvPicPr/>
          <p:nvPr/>
        </p:nvPicPr>
        <p:blipFill>
          <a:blip r:embed="rId2"/>
          <a:stretch/>
        </p:blipFill>
        <p:spPr>
          <a:xfrm>
            <a:off x="2978640" y="1772280"/>
            <a:ext cx="647352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3BF79-CE1B-47BF-8515-0619B32A8D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56</TotalTime>
  <Application>LibreOffice/7.4.7.2$Linux_X86_64 LibreOffice_project/40$Build-2</Application>
  <AppVersion>15.0000</AppVersion>
  <Words>46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16Z</dcterms:modified>
  <cp:revision>1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