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3500A0-654A-4A43-B7A6-847F548D1C06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SG"/>
        </a:p>
      </dgm:t>
    </dgm:pt>
    <dgm:pt modelId="{54C31A48-4999-46D6-8F4E-82621459D554}">
      <dgm:prSet phldrT="[Text]"/>
      <dgm:spPr/>
      <dgm:t>
        <a:bodyPr/>
        <a:lstStyle/>
        <a:p>
          <a:pPr rtl="1"/>
          <a:r>
            <a:rPr lang="fa-IR" smtClean="0">
              <a:cs typeface="B Nazanin" panose="00000400000000000000" pitchFamily="2" charset="-78"/>
            </a:rPr>
            <a:t>گروه </a:t>
          </a:r>
          <a:r>
            <a:rPr lang="en-SG" smtClean="0">
              <a:cs typeface="B Nazanin" panose="00000400000000000000" pitchFamily="2" charset="-78"/>
            </a:rPr>
            <a:t>A</a:t>
          </a:r>
          <a:endParaRPr lang="en-SG" dirty="0">
            <a:cs typeface="B Nazanin" panose="00000400000000000000" pitchFamily="2" charset="-78"/>
          </a:endParaRPr>
        </a:p>
      </dgm:t>
    </dgm:pt>
    <dgm:pt modelId="{F620177C-0B66-4CBB-A621-5363D9629BE3}" type="par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54D790F1-99FE-4009-9493-A06966C3A36C}" type="sib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4843F62-836F-4783-88BD-36404297F51E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چوب، پلاستیک، نایلون</a:t>
          </a:r>
          <a:endParaRPr lang="en-SG" dirty="0">
            <a:cs typeface="B Nazanin" panose="00000400000000000000" pitchFamily="2" charset="-78"/>
          </a:endParaRPr>
        </a:p>
      </dgm:t>
    </dgm:pt>
    <dgm:pt modelId="{53BAAA5F-D853-449B-A166-CCFFC00DB43A}" type="par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3EAB1B8-BED0-4E27-A547-10BF403D0400}" type="sib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0F81A63-7ED7-41DC-9892-A0E483D39A49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B</a:t>
          </a:r>
          <a:endParaRPr lang="en-SG" dirty="0">
            <a:cs typeface="B Nazanin" panose="00000400000000000000" pitchFamily="2" charset="-78"/>
          </a:endParaRPr>
        </a:p>
      </dgm:t>
    </dgm:pt>
    <dgm:pt modelId="{8259298E-E5CC-42B4-B22D-F966278E69BB}" type="par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F24E2E8-0F40-4B4F-AE04-AA160E43D1A5}" type="sib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76AECB33-C3FD-4FD0-A011-D23B3913B580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بنزین،گازوییل،الکل،گازهای قابل اشتعال</a:t>
          </a:r>
          <a:endParaRPr lang="en-SG" dirty="0">
            <a:cs typeface="B Nazanin" panose="00000400000000000000" pitchFamily="2" charset="-78"/>
          </a:endParaRPr>
        </a:p>
      </dgm:t>
    </dgm:pt>
    <dgm:pt modelId="{027C7094-4034-4947-91EC-BAE9EABC0081}" type="par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0DE10-079B-46A8-951F-5C6FF899E23B}" type="sib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87895A8-4BD3-47C7-84B4-8CD7F18E4374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C</a:t>
          </a:r>
          <a:endParaRPr lang="en-SG" dirty="0">
            <a:cs typeface="B Nazanin" panose="00000400000000000000" pitchFamily="2" charset="-78"/>
          </a:endParaRPr>
        </a:p>
      </dgm:t>
    </dgm:pt>
    <dgm:pt modelId="{3CD4A2B8-907B-4AFA-9D19-B4CD470FCF51}" type="par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8FDBB641-6392-4CA4-B9E1-88FE67F78F04}" type="sib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6B3E51C4-651E-4815-B39D-E945C0358781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تجهیزات الکتریکی مانند تابلو برق ها یا کامپیوتر ها ، موتورها یا هر تجهیز قابل اشتعالی که با برق کار می کند</a:t>
          </a:r>
          <a:endParaRPr lang="en-SG" dirty="0">
            <a:cs typeface="B Nazanin" panose="00000400000000000000" pitchFamily="2" charset="-78"/>
          </a:endParaRPr>
        </a:p>
      </dgm:t>
    </dgm:pt>
    <dgm:pt modelId="{13E44969-E01D-440F-87BB-67399DE9D5CE}" type="par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9E183BF8-8BDF-46DA-A223-1AED3A16DDA4}" type="sib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3450207-6E01-4CCE-B9F0-7C3D2DA50977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D</a:t>
          </a:r>
          <a:endParaRPr lang="en-SG" dirty="0">
            <a:cs typeface="B Nazanin" panose="00000400000000000000" pitchFamily="2" charset="-78"/>
          </a:endParaRPr>
        </a:p>
      </dgm:t>
    </dgm:pt>
    <dgm:pt modelId="{9E9FFBD9-EF24-4713-ADC5-98C62BFC4608}" type="par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A35D026-CD71-466F-A352-1FDC391AA176}" type="sib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29D31DE-1733-415D-BCD7-52FE7D025DC9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K</a:t>
          </a:r>
          <a:endParaRPr lang="en-SG" dirty="0">
            <a:cs typeface="B Nazanin" panose="00000400000000000000" pitchFamily="2" charset="-78"/>
          </a:endParaRPr>
        </a:p>
      </dgm:t>
    </dgm:pt>
    <dgm:pt modelId="{E7268877-3638-4DD0-9597-BAC883B56E01}" type="par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2D311FB5-8DD3-4B0F-B1FA-73FD78E73E3B}" type="sib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301C561D-0C27-48A4-AF3E-886128B9B7F3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فلزات قابل اشتعال :منیزیم،آلومینیم،پتاسیم و… </a:t>
          </a:r>
          <a:endParaRPr lang="en-SG" dirty="0">
            <a:cs typeface="B Nazanin" panose="00000400000000000000" pitchFamily="2" charset="-78"/>
          </a:endParaRPr>
        </a:p>
      </dgm:t>
    </dgm:pt>
    <dgm:pt modelId="{122EA30E-6729-4200-AC34-EF6782BE341F}" type="par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E5017F8-A713-4F8D-8B6C-BD325C5AB12C}" type="sib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EDF77E4-0839-4D4F-9144-6E7309CB7FA8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روغن ها و چربی های پخت در آشپزخانه</a:t>
          </a:r>
          <a:endParaRPr lang="en-SG" dirty="0">
            <a:cs typeface="B Nazanin" panose="00000400000000000000" pitchFamily="2" charset="-78"/>
          </a:endParaRPr>
        </a:p>
      </dgm:t>
    </dgm:pt>
    <dgm:pt modelId="{0646CA2E-EE29-47CE-9588-8C09A67898DD}" type="par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BF545-3D64-4048-8DB5-225B5DBDE372}" type="sib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75C14F7-7647-44FD-9F25-E081D508FD81}" type="pres">
      <dgm:prSet presAssocID="{B53500A0-654A-4A43-B7A6-847F548D1C06}" presName="linearFlow" presStyleCnt="0">
        <dgm:presLayoutVars>
          <dgm:dir val="rev"/>
          <dgm:animLvl val="lvl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A9532DA5-F361-4237-B973-0DC49F55EE48}" type="pres">
      <dgm:prSet presAssocID="{54C31A48-4999-46D6-8F4E-82621459D554}" presName="composite" presStyleCnt="0"/>
      <dgm:spPr/>
    </dgm:pt>
    <dgm:pt modelId="{F8BE8BA7-7225-4F90-9180-0285823F773C}" type="pres">
      <dgm:prSet presAssocID="{54C31A48-4999-46D6-8F4E-82621459D554}" presName="parentText" presStyleLbl="alignNode1" presStyleIdx="0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5B9B9CE7-E432-4A65-B832-25990C93D580}" type="pres">
      <dgm:prSet presAssocID="{54C31A48-4999-46D6-8F4E-82621459D554}" presName="descendantText" presStyleLbl="alignAcc1" presStyleIdx="0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49B932-21F9-4250-9FF9-C120550F844C}" type="pres">
      <dgm:prSet presAssocID="{54D790F1-99FE-4009-9493-A06966C3A36C}" presName="sp" presStyleCnt="0"/>
      <dgm:spPr/>
    </dgm:pt>
    <dgm:pt modelId="{87E699C6-2777-46DB-BD58-FB07AE3319DB}" type="pres">
      <dgm:prSet presAssocID="{F0F81A63-7ED7-41DC-9892-A0E483D39A49}" presName="composite" presStyleCnt="0"/>
      <dgm:spPr/>
    </dgm:pt>
    <dgm:pt modelId="{046BECE5-80FA-4660-ACA4-FF697CB6B749}" type="pres">
      <dgm:prSet presAssocID="{F0F81A63-7ED7-41DC-9892-A0E483D39A49}" presName="parentText" presStyleLbl="align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EE848C31-3495-47EC-A8F2-233B66CCBFF9}" type="pres">
      <dgm:prSet presAssocID="{F0F81A63-7ED7-41DC-9892-A0E483D39A49}" presName="descendantText" presStyleLbl="alignAcc1" presStyleIdx="1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D093C16-08E1-4937-A53C-374B9240604D}" type="pres">
      <dgm:prSet presAssocID="{0F24E2E8-0F40-4B4F-AE04-AA160E43D1A5}" presName="sp" presStyleCnt="0"/>
      <dgm:spPr/>
    </dgm:pt>
    <dgm:pt modelId="{84DFCA00-CC7E-45B5-B5A2-02A917EE8361}" type="pres">
      <dgm:prSet presAssocID="{E87895A8-4BD3-47C7-84B4-8CD7F18E4374}" presName="composite" presStyleCnt="0"/>
      <dgm:spPr/>
    </dgm:pt>
    <dgm:pt modelId="{5A033AB5-3EF5-420B-8350-23D9C3EAB705}" type="pres">
      <dgm:prSet presAssocID="{E87895A8-4BD3-47C7-84B4-8CD7F18E4374}" presName="parentText" presStyleLbl="align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5A8605-A096-4AFB-B569-E4F0906E218E}" type="pres">
      <dgm:prSet presAssocID="{E87895A8-4BD3-47C7-84B4-8CD7F18E4374}" presName="descendantText" presStyleLbl="alignAcc1" presStyleIdx="2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4DECE45-AEF9-4B52-9211-377FB52CB8D0}" type="pres">
      <dgm:prSet presAssocID="{8FDBB641-6392-4CA4-B9E1-88FE67F78F04}" presName="sp" presStyleCnt="0"/>
      <dgm:spPr/>
    </dgm:pt>
    <dgm:pt modelId="{846AFF70-E9A6-4E4B-952B-34C7EF9632A2}" type="pres">
      <dgm:prSet presAssocID="{C3450207-6E01-4CCE-B9F0-7C3D2DA50977}" presName="composite" presStyleCnt="0"/>
      <dgm:spPr/>
    </dgm:pt>
    <dgm:pt modelId="{4D168BB2-DFBF-4F69-8214-3CA6D594B75A}" type="pres">
      <dgm:prSet presAssocID="{C3450207-6E01-4CCE-B9F0-7C3D2DA50977}" presName="parentText" presStyleLbl="align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171C8BB-FA0A-495D-AA66-721B73390485}" type="pres">
      <dgm:prSet presAssocID="{C3450207-6E01-4CCE-B9F0-7C3D2DA50977}" presName="descendantText" presStyleLbl="alignAcc1" presStyleIdx="3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C9995DFD-9554-4EA4-A88E-A1C21B947D7D}" type="pres">
      <dgm:prSet presAssocID="{DA35D026-CD71-466F-A352-1FDC391AA176}" presName="sp" presStyleCnt="0"/>
      <dgm:spPr/>
    </dgm:pt>
    <dgm:pt modelId="{9236855D-E3F9-4A6B-B2E9-4720C2192D82}" type="pres">
      <dgm:prSet presAssocID="{E29D31DE-1733-415D-BCD7-52FE7D025DC9}" presName="composite" presStyleCnt="0"/>
      <dgm:spPr/>
    </dgm:pt>
    <dgm:pt modelId="{5745180A-9D7B-4C32-B4F8-4F9C3AF12B80}" type="pres">
      <dgm:prSet presAssocID="{E29D31DE-1733-415D-BCD7-52FE7D025DC9}" presName="parentText" presStyleLbl="align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ACF71AD0-FB08-482A-A9E1-A5B064333AF8}" type="pres">
      <dgm:prSet presAssocID="{E29D31DE-1733-415D-BCD7-52FE7D025DC9}" presName="descendantText" presStyleLbl="alignAcc1" presStyleIdx="4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</dgm:ptLst>
  <dgm:cxnLst>
    <dgm:cxn modelId="{346FC3C0-6CE1-4C6F-A356-3277C8FF29E6}" srcId="{B53500A0-654A-4A43-B7A6-847F548D1C06}" destId="{E29D31DE-1733-415D-BCD7-52FE7D025DC9}" srcOrd="4" destOrd="0" parTransId="{E7268877-3638-4DD0-9597-BAC883B56E01}" sibTransId="{2D311FB5-8DD3-4B0F-B1FA-73FD78E73E3B}"/>
    <dgm:cxn modelId="{34121961-7271-4D63-8917-2351824B4007}" srcId="{B53500A0-654A-4A43-B7A6-847F548D1C06}" destId="{E87895A8-4BD3-47C7-84B4-8CD7F18E4374}" srcOrd="2" destOrd="0" parTransId="{3CD4A2B8-907B-4AFA-9D19-B4CD470FCF51}" sibTransId="{8FDBB641-6392-4CA4-B9E1-88FE67F78F04}"/>
    <dgm:cxn modelId="{624505DD-043B-4A96-996A-6FE1257CA3C7}" srcId="{C3450207-6E01-4CCE-B9F0-7C3D2DA50977}" destId="{301C561D-0C27-48A4-AF3E-886128B9B7F3}" srcOrd="0" destOrd="0" parTransId="{122EA30E-6729-4200-AC34-EF6782BE341F}" sibTransId="{0E5017F8-A713-4F8D-8B6C-BD325C5AB12C}"/>
    <dgm:cxn modelId="{508618F5-C7F9-4861-9ACD-9C4965344D64}" type="presOf" srcId="{54C31A48-4999-46D6-8F4E-82621459D554}" destId="{F8BE8BA7-7225-4F90-9180-0285823F773C}" srcOrd="0" destOrd="0" presId="urn:microsoft.com/office/officeart/2005/8/layout/chevron2"/>
    <dgm:cxn modelId="{53DE5E13-AB89-41DE-8358-C2F54BF36C8E}" srcId="{B53500A0-654A-4A43-B7A6-847F548D1C06}" destId="{C3450207-6E01-4CCE-B9F0-7C3D2DA50977}" srcOrd="3" destOrd="0" parTransId="{9E9FFBD9-EF24-4713-ADC5-98C62BFC4608}" sibTransId="{DA35D026-CD71-466F-A352-1FDC391AA176}"/>
    <dgm:cxn modelId="{0030FA97-1B4F-4CDD-8622-209D7C377CEB}" srcId="{B53500A0-654A-4A43-B7A6-847F548D1C06}" destId="{F0F81A63-7ED7-41DC-9892-A0E483D39A49}" srcOrd="1" destOrd="0" parTransId="{8259298E-E5CC-42B4-B22D-F966278E69BB}" sibTransId="{0F24E2E8-0F40-4B4F-AE04-AA160E43D1A5}"/>
    <dgm:cxn modelId="{23BAA434-5FE2-44C0-8AB8-3DBC0608BAC8}" srcId="{B53500A0-654A-4A43-B7A6-847F548D1C06}" destId="{54C31A48-4999-46D6-8F4E-82621459D554}" srcOrd="0" destOrd="0" parTransId="{F620177C-0B66-4CBB-A621-5363D9629BE3}" sibTransId="{54D790F1-99FE-4009-9493-A06966C3A36C}"/>
    <dgm:cxn modelId="{517BA778-BB43-4C93-B994-D451ABC58A9E}" type="presOf" srcId="{F0F81A63-7ED7-41DC-9892-A0E483D39A49}" destId="{046BECE5-80FA-4660-ACA4-FF697CB6B749}" srcOrd="0" destOrd="0" presId="urn:microsoft.com/office/officeart/2005/8/layout/chevron2"/>
    <dgm:cxn modelId="{672FB341-CCA8-4C03-99D5-897535F35648}" srcId="{54C31A48-4999-46D6-8F4E-82621459D554}" destId="{C4843F62-836F-4783-88BD-36404297F51E}" srcOrd="0" destOrd="0" parTransId="{53BAAA5F-D853-449B-A166-CCFFC00DB43A}" sibTransId="{D3EAB1B8-BED0-4E27-A547-10BF403D0400}"/>
    <dgm:cxn modelId="{78A9F40F-4DA1-405F-A2E4-BE3BE2E0ECAD}" type="presOf" srcId="{FEDF77E4-0839-4D4F-9144-6E7309CB7FA8}" destId="{ACF71AD0-FB08-482A-A9E1-A5B064333AF8}" srcOrd="0" destOrd="0" presId="urn:microsoft.com/office/officeart/2005/8/layout/chevron2"/>
    <dgm:cxn modelId="{6A4FD7D8-F937-429E-9AC3-B842B15EB8F3}" type="presOf" srcId="{C4843F62-836F-4783-88BD-36404297F51E}" destId="{5B9B9CE7-E432-4A65-B832-25990C93D580}" srcOrd="0" destOrd="0" presId="urn:microsoft.com/office/officeart/2005/8/layout/chevron2"/>
    <dgm:cxn modelId="{3D9B571B-3099-494F-87B7-1336D2E4C88F}" type="presOf" srcId="{C3450207-6E01-4CCE-B9F0-7C3D2DA50977}" destId="{4D168BB2-DFBF-4F69-8214-3CA6D594B75A}" srcOrd="0" destOrd="0" presId="urn:microsoft.com/office/officeart/2005/8/layout/chevron2"/>
    <dgm:cxn modelId="{AA76C617-5167-49BA-9D39-3222E927FE4B}" type="presOf" srcId="{E87895A8-4BD3-47C7-84B4-8CD7F18E4374}" destId="{5A033AB5-3EF5-420B-8350-23D9C3EAB705}" srcOrd="0" destOrd="0" presId="urn:microsoft.com/office/officeart/2005/8/layout/chevron2"/>
    <dgm:cxn modelId="{7C41788D-871C-4D27-AADD-14333FD76A52}" type="presOf" srcId="{B53500A0-654A-4A43-B7A6-847F548D1C06}" destId="{D75C14F7-7647-44FD-9F25-E081D508FD81}" srcOrd="0" destOrd="0" presId="urn:microsoft.com/office/officeart/2005/8/layout/chevron2"/>
    <dgm:cxn modelId="{5F468F98-83E2-460E-92AE-72B6334EA2AD}" srcId="{E87895A8-4BD3-47C7-84B4-8CD7F18E4374}" destId="{6B3E51C4-651E-4815-B39D-E945C0358781}" srcOrd="0" destOrd="0" parTransId="{13E44969-E01D-440F-87BB-67399DE9D5CE}" sibTransId="{9E183BF8-8BDF-46DA-A223-1AED3A16DDA4}"/>
    <dgm:cxn modelId="{8AD61F54-7D8E-4413-AA71-CA42DF8CEDE5}" type="presOf" srcId="{76AECB33-C3FD-4FD0-A011-D23B3913B580}" destId="{EE848C31-3495-47EC-A8F2-233B66CCBFF9}" srcOrd="0" destOrd="0" presId="urn:microsoft.com/office/officeart/2005/8/layout/chevron2"/>
    <dgm:cxn modelId="{2F07CF6B-251B-4962-91B9-5A89578DD480}" srcId="{F0F81A63-7ED7-41DC-9892-A0E483D39A49}" destId="{76AECB33-C3FD-4FD0-A011-D23B3913B580}" srcOrd="0" destOrd="0" parTransId="{027C7094-4034-4947-91EC-BAE9EABC0081}" sibTransId="{DCC0DE10-079B-46A8-951F-5C6FF899E23B}"/>
    <dgm:cxn modelId="{1B7A74A6-B81A-4A1B-96A6-7804410A6B42}" type="presOf" srcId="{301C561D-0C27-48A4-AF3E-886128B9B7F3}" destId="{0171C8BB-FA0A-495D-AA66-721B73390485}" srcOrd="0" destOrd="0" presId="urn:microsoft.com/office/officeart/2005/8/layout/chevron2"/>
    <dgm:cxn modelId="{156A79EF-1187-4E2A-A24E-F9CEC59FA4A4}" type="presOf" srcId="{6B3E51C4-651E-4815-B39D-E945C0358781}" destId="{835A8605-A096-4AFB-B569-E4F0906E218E}" srcOrd="0" destOrd="0" presId="urn:microsoft.com/office/officeart/2005/8/layout/chevron2"/>
    <dgm:cxn modelId="{9F69D7F8-4021-42E2-9D7C-E396F7B5E457}" srcId="{E29D31DE-1733-415D-BCD7-52FE7D025DC9}" destId="{FEDF77E4-0839-4D4F-9144-6E7309CB7FA8}" srcOrd="0" destOrd="0" parTransId="{0646CA2E-EE29-47CE-9588-8C09A67898DD}" sibTransId="{DCCBF545-3D64-4048-8DB5-225B5DBDE372}"/>
    <dgm:cxn modelId="{8BF6F4E4-046C-4A51-A3B3-D3B633F54E92}" type="presOf" srcId="{E29D31DE-1733-415D-BCD7-52FE7D025DC9}" destId="{5745180A-9D7B-4C32-B4F8-4F9C3AF12B80}" srcOrd="0" destOrd="0" presId="urn:microsoft.com/office/officeart/2005/8/layout/chevron2"/>
    <dgm:cxn modelId="{6C77749D-90D0-4F8D-8BF5-C495D5869B8A}" type="presParOf" srcId="{D75C14F7-7647-44FD-9F25-E081D508FD81}" destId="{A9532DA5-F361-4237-B973-0DC49F55EE48}" srcOrd="0" destOrd="0" presId="urn:microsoft.com/office/officeart/2005/8/layout/chevron2"/>
    <dgm:cxn modelId="{141DCC57-E6C1-4F09-8535-9281FF68EA33}" type="presParOf" srcId="{A9532DA5-F361-4237-B973-0DC49F55EE48}" destId="{F8BE8BA7-7225-4F90-9180-0285823F773C}" srcOrd="0" destOrd="0" presId="urn:microsoft.com/office/officeart/2005/8/layout/chevron2"/>
    <dgm:cxn modelId="{8AF74147-7D1D-49CA-BF96-A3CD70FACF1A}" type="presParOf" srcId="{A9532DA5-F361-4237-B973-0DC49F55EE48}" destId="{5B9B9CE7-E432-4A65-B832-25990C93D580}" srcOrd="1" destOrd="0" presId="urn:microsoft.com/office/officeart/2005/8/layout/chevron2"/>
    <dgm:cxn modelId="{B9101FE6-F791-4068-BB61-47D7DF03444A}" type="presParOf" srcId="{D75C14F7-7647-44FD-9F25-E081D508FD81}" destId="{8349B932-21F9-4250-9FF9-C120550F844C}" srcOrd="1" destOrd="0" presId="urn:microsoft.com/office/officeart/2005/8/layout/chevron2"/>
    <dgm:cxn modelId="{B17CA0B7-35FD-4BBD-A66B-6B998B771073}" type="presParOf" srcId="{D75C14F7-7647-44FD-9F25-E081D508FD81}" destId="{87E699C6-2777-46DB-BD58-FB07AE3319DB}" srcOrd="2" destOrd="0" presId="urn:microsoft.com/office/officeart/2005/8/layout/chevron2"/>
    <dgm:cxn modelId="{FF684151-0191-4D0D-B5E0-59DD38E2CB6E}" type="presParOf" srcId="{87E699C6-2777-46DB-BD58-FB07AE3319DB}" destId="{046BECE5-80FA-4660-ACA4-FF697CB6B749}" srcOrd="0" destOrd="0" presId="urn:microsoft.com/office/officeart/2005/8/layout/chevron2"/>
    <dgm:cxn modelId="{C3678F06-BD27-4E4B-94DD-36E12261493A}" type="presParOf" srcId="{87E699C6-2777-46DB-BD58-FB07AE3319DB}" destId="{EE848C31-3495-47EC-A8F2-233B66CCBFF9}" srcOrd="1" destOrd="0" presId="urn:microsoft.com/office/officeart/2005/8/layout/chevron2"/>
    <dgm:cxn modelId="{565B90DE-976C-43CC-970C-F0DFA65957D7}" type="presParOf" srcId="{D75C14F7-7647-44FD-9F25-E081D508FD81}" destId="{0D093C16-08E1-4937-A53C-374B9240604D}" srcOrd="3" destOrd="0" presId="urn:microsoft.com/office/officeart/2005/8/layout/chevron2"/>
    <dgm:cxn modelId="{4BB162D6-54A1-4B50-A812-B8BDAEE2CBD1}" type="presParOf" srcId="{D75C14F7-7647-44FD-9F25-E081D508FD81}" destId="{84DFCA00-CC7E-45B5-B5A2-02A917EE8361}" srcOrd="4" destOrd="0" presId="urn:microsoft.com/office/officeart/2005/8/layout/chevron2"/>
    <dgm:cxn modelId="{4469ABF9-517A-4245-B6C7-04D0FB00578D}" type="presParOf" srcId="{84DFCA00-CC7E-45B5-B5A2-02A917EE8361}" destId="{5A033AB5-3EF5-420B-8350-23D9C3EAB705}" srcOrd="0" destOrd="0" presId="urn:microsoft.com/office/officeart/2005/8/layout/chevron2"/>
    <dgm:cxn modelId="{F817E5E1-32C5-4D82-8771-F2022F91576A}" type="presParOf" srcId="{84DFCA00-CC7E-45B5-B5A2-02A917EE8361}" destId="{835A8605-A096-4AFB-B569-E4F0906E218E}" srcOrd="1" destOrd="0" presId="urn:microsoft.com/office/officeart/2005/8/layout/chevron2"/>
    <dgm:cxn modelId="{B98F6D18-52B2-4B70-9C6F-4DF66162F5E4}" type="presParOf" srcId="{D75C14F7-7647-44FD-9F25-E081D508FD81}" destId="{94DECE45-AEF9-4B52-9211-377FB52CB8D0}" srcOrd="5" destOrd="0" presId="urn:microsoft.com/office/officeart/2005/8/layout/chevron2"/>
    <dgm:cxn modelId="{E185B77D-9770-4B2C-96CD-A0C83E4489D4}" type="presParOf" srcId="{D75C14F7-7647-44FD-9F25-E081D508FD81}" destId="{846AFF70-E9A6-4E4B-952B-34C7EF9632A2}" srcOrd="6" destOrd="0" presId="urn:microsoft.com/office/officeart/2005/8/layout/chevron2"/>
    <dgm:cxn modelId="{78EE7CA3-FA8F-4C44-96B4-F2AAF20FEFB4}" type="presParOf" srcId="{846AFF70-E9A6-4E4B-952B-34C7EF9632A2}" destId="{4D168BB2-DFBF-4F69-8214-3CA6D594B75A}" srcOrd="0" destOrd="0" presId="urn:microsoft.com/office/officeart/2005/8/layout/chevron2"/>
    <dgm:cxn modelId="{6CB2FBD6-1E2C-4884-90D7-EC5C18CD2017}" type="presParOf" srcId="{846AFF70-E9A6-4E4B-952B-34C7EF9632A2}" destId="{0171C8BB-FA0A-495D-AA66-721B73390485}" srcOrd="1" destOrd="0" presId="urn:microsoft.com/office/officeart/2005/8/layout/chevron2"/>
    <dgm:cxn modelId="{E88494E8-0226-4323-83DF-7A2B8A46022C}" type="presParOf" srcId="{D75C14F7-7647-44FD-9F25-E081D508FD81}" destId="{C9995DFD-9554-4EA4-A88E-A1C21B947D7D}" srcOrd="7" destOrd="0" presId="urn:microsoft.com/office/officeart/2005/8/layout/chevron2"/>
    <dgm:cxn modelId="{0E6BFECB-10F8-4EEB-BCFA-F49DFCE9A92D}" type="presParOf" srcId="{D75C14F7-7647-44FD-9F25-E081D508FD81}" destId="{9236855D-E3F9-4A6B-B2E9-4720C2192D82}" srcOrd="8" destOrd="0" presId="urn:microsoft.com/office/officeart/2005/8/layout/chevron2"/>
    <dgm:cxn modelId="{BF327FBD-45F9-465C-85CA-5FD9B5AF450C}" type="presParOf" srcId="{9236855D-E3F9-4A6B-B2E9-4720C2192D82}" destId="{5745180A-9D7B-4C32-B4F8-4F9C3AF12B80}" srcOrd="0" destOrd="0" presId="urn:microsoft.com/office/officeart/2005/8/layout/chevron2"/>
    <dgm:cxn modelId="{F0D42A0C-9E9A-4DA3-90E4-81E069028E1F}" type="presParOf" srcId="{9236855D-E3F9-4A6B-B2E9-4720C2192D82}" destId="{ACF71AD0-FB08-482A-A9E1-A5B064333AF8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B4E5FC-E65F-4DC8-970E-ACED9B2FA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23AA44D-9CA1-47AE-96B1-B432DE9997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D046-233E-43EB-843A-539A7E53EB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93C8-3761-4D55-982E-EB6BBA52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982B-526F-4389-98AF-2C6757B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DEFA-B3FD-46BC-81D1-736C0A9ED9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6B488-07E0-466C-B617-397B99BB3B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1C8CC-2B1C-4F29-89FC-295E386FDD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85DE9-CF1F-4DBE-BE3B-219074BEA6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35551-14D3-40BC-833B-FC538DEE8F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49E4E-02E7-4824-B624-B1226348B5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D30E2-7531-4704-81F7-78BA317094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BA8EF-F8F4-4C76-83AC-9959B15034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FEE0-E2CD-4844-938C-7AF248E5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D5D74-1B0E-4217-968C-6E5BFFC447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0A3E4-6108-4C0F-86FC-789B44D590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6978E-BDFB-42AB-9727-D697DED473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EDEF6-22C8-459B-95EA-1A161CD883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412A3-A240-4F05-A89C-745FE3A217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005CF-26F8-46D0-B8E3-FC491183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EA3F6-F825-43B5-BE88-BDDE6CBE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326AA4-452E-4B3A-ACE6-D536569D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62A83-FB4F-4D2F-AACB-CB2DB35A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6BCB3-2C84-45D0-9E2D-C2218D29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05BA-5BC2-404B-9E45-7ADE99A6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EF20F-08A9-4B51-9DF9-1FFC9B56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B001D1-771D-4EA8-BE25-64E24808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46594-68DC-41F2-9496-907C66E0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92215-0245-4AE4-84CB-E06B47B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D5EB4-698A-4E8E-8415-E77803E2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407B3-B35F-4CAB-AB7D-955706DE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FD05B-9EAE-4E0A-A215-B546748A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5DCF-A66C-465F-B5B4-671B22EF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8D52-920F-42AC-AB69-A762105B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A240-7F8C-4EEC-91D7-7D129459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DFEC-C9DF-47BD-BA57-02351F7D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DB15-0166-4BAB-935F-B5AEA245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C380-6022-49C2-B2F8-DA6B4294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9CB173-9CDB-4F0B-AD4A-89392BAA8DA4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C4401C-021F-440F-9EFC-17E1EA2A25E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4952880"/>
            <a:ext cx="12188520" cy="19047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491508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7280" y="507492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en-US" sz="3600" spc="-52" strike="noStrike">
                <a:solidFill>
                  <a:srgbClr val="ffffff"/>
                </a:solidFill>
                <a:latin typeface="Calibri Light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91760" cy="4914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457200" rIns="90000" tIns="4572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1097280" y="5906880"/>
            <a:ext cx="10112760" cy="5940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r" rtl="1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it Master text styles</a:t>
            </a:r>
            <a:endParaRPr b="1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7C8432-4C25-4F25-8056-D3E910B3A039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en-US" sz="4400" spc="-52" strike="noStrike">
                <a:solidFill>
                  <a:srgbClr val="1a2884"/>
                </a:solidFill>
                <a:latin typeface="Calibri Light"/>
              </a:rPr>
              <a:t> پیشگیری از آتش سوز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DFF3-DCA2-4D45-9A95-F01EA31FA2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سوختگي با مايعات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جلوگيري از سقوط قابلمه، كتري، قوري و سماور آنها را در سطح جلو كابينت و يا اجاق گاز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يم كتري و سماور برقي بايد كوتاه باشد و به حالت آويزان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حض جوش آمدن آب، سيم را از پريزبرق و كتري خارج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وه را لبريز از روغن يا كره داغ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3FBAF-0638-4E24-9748-5A626B1B75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صورت آتش گرفتن ظروف حاوي روغن مثل ماهي تابه، درپوش آن را بگذاريد و آب روي آن نپا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را بر روي سطح صاف و هموار قرار 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بايد از نظر تكنيكي سالم باشد تا خطري ايجاد نك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کبریت و مواد آتش زا و اسپری ها در کنار گاز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یک کپسول اطفا حریق کوچک در اشپزخانه داشته باش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6FB77-0260-4611-8595-2A06D8133C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خو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Placeholder 3" descr=""/>
          <p:cNvPicPr/>
          <p:nvPr/>
        </p:nvPicPr>
        <p:blipFill>
          <a:blip r:embed="rId2"/>
          <a:srcRect l="0" t="29837" r="0" b="29837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8617D-3EDF-44B3-8E1D-471CE4AE94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خوا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هيچگاه در رختخواب سيگار نك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تاق خواب آشپزی نکنی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لحاف و تشك نبايد به منبع حرارت  در زير كرسي نزديك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صب شومينه، بخاري ديواري و چراغ روشنايي در اتاق خواب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نقل كرسي نبايد پر شود و زير آن صفحه عايق يا نسوز قرار 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گرم كردن كرسي از چراغ خوراك پزي استفاد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ی های ایمن استفاد شو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156C0-2ADB-4FCB-B764-CDA07FE021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سرویس بهداش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Placeholder 5" descr=""/>
          <p:cNvPicPr/>
          <p:nvPr/>
        </p:nvPicPr>
        <p:blipFill>
          <a:blip r:embed="rId2"/>
          <a:srcRect l="0" t="14152" r="0" b="14152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162A1-E4E0-461A-8B42-2090A70C16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سرویس بهداشتی و حما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6360" y="2106000"/>
            <a:ext cx="10830960" cy="427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هت لكه گيري لباسهاي پشمي و نايلوني از مواد قابل اشتعال مثل بنزين و تينر به خصوص در فضاهای بسته مثل حمام استفاده نک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گهداری مواد اشتعال زا در حمام و سرویس بهداشتی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139A2-B0EC-4667-B7CF-C2453FE2A9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مدا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Placeholder 3" descr=""/>
          <p:cNvPicPr/>
          <p:nvPr/>
        </p:nvPicPr>
        <p:blipFill>
          <a:blip r:embed="rId2"/>
          <a:srcRect l="0" t="29834" r="0" b="29834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A5CB7-B16C-42A7-95DD-748FF5D249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200" y="1553400"/>
            <a:ext cx="1165212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0000"/>
          </a:bodyPr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نباري يا هر محل ديگر، زباله هاي آتش گير مثل چوب، خاك اره، ذغال، كاغذ و خار و خاشاك انباشت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يعات قابل اشتعال مثل چسب موكت، نفت، گازوئيل و ... را در خانه و مدرسه (به ويژه درزيرزمين و پاركينگ) نگه ند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تفاده و كاربردهاي ديگر از موتورخانه(سيستم حرارت مركزي شوفاژ) ممنوع مي‌باشد،  به عنوان مثال: انبار و نگهداري كاغذ و اقلامي كه آتش زا هست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مع آوري و انبار نمودن روغن، گريس، كهنه هاي روغني، نخاله هاي آلوده به روغن و مواد نفتي و نظاير آن بر روي وسايل و تجهيزات ساختماني يا در مجاورت آنها مجاز ني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واع وسايل گرمازا نظير بخاري برقي يا گازي، اجاق گاز، فر، سماور، پيك نيك و ... بايد حفاظ مناسب داشته باش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AE37C-1C38-4097-855A-C617642FD5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320" y="1553400"/>
            <a:ext cx="1147500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ي و اجاق هايي استفاده كنيد كه سطح خارجي آنها با لايه عايق يا حفاظ ايمني پوشيده شده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نكر نفت، در محوطه حياط و دور از مواد قابل اشتعال مثل چوب، كاه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و ... بوده و درب آن كاملا بسته نباشد تا گازهاي توليد شده در اثر تابش خورشيد از آن خارج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كليه وسايل گازسوز بايد با استانداردهاي ملي مربوط به آن دستگاه مطابقت داشته و توسط افرادي كه داراي پروانه صلاحيت باشند، نصب و راه اندازي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تبديل وسايلي كه با سوخت هاي ديگر كار مي كنند به وسايل گاز سوز خودداري نماي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7CF4B-92EA-43E4-9ED5-3F4C9E07CD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زير بخاريهايي كه با سوخت جامد كار مي كنند صفحه اي نسوز يا عايق قرار ده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وسايل گرمايي و بخاري در مسير رفت و آمد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خازن نگهداری نفت و گازوئيل بايد دوراز دسترس کودکان قرار داده شود و محتوای داخل آن برای کودکان قابل دستيابی نباشد 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يچ هاي روشن و خاموش كردن اجاق گاز بايد دور از دسترس كودكان قرار گيرد و اگر قفل شود بهتر ا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1943C-6424-449E-8E4D-95304C745D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CD61B-732E-4EEB-912C-C5720C698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6360" y="2216880"/>
            <a:ext cx="1083096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گر لوله كشي گاز از روي پشت بام عبور مي كند بايد در معرض برخورد با اجسام خارجي و مسير عبور و مرور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زنگ زدگي لوله كشي گاز در اثر تماس طولاني با آب باران و برف جلوگيري به عمل آ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52E5A-9346-4A98-91DE-2415FF7C8A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tretch/>
        </p:blipFill>
        <p:spPr>
          <a:xfrm>
            <a:off x="1947960" y="1707480"/>
            <a:ext cx="8629200" cy="43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14" name="Object 3"/>
          <p:cNvGraphicFramePr/>
          <p:nvPr/>
        </p:nvGraphicFramePr>
        <p:xfrm>
          <a:off x="92160" y="92160"/>
          <a:ext cx="553680" cy="371160"/>
        </p:xfrm>
        <a:graphic>
          <a:graphicData uri="http://schemas.openxmlformats.org/presentationml/2006/ole">
            <p:oleObj progId="Package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92160"/>
                    <a:ext cx="553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6355B-E5E8-40AF-9274-AF01BE8D47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نواع مواد آتش ز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14341721"/>
              </p:ext>
            </p:extLst>
          </p:nvPr>
        </p:nvGraphicFramePr>
        <p:xfrm>
          <a:off x="1079280" y="1536480"/>
          <a:ext cx="10472400" cy="4793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03E9A-FF7F-45F5-B2B4-9094F8C4B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Placeholder 8" descr=""/>
          <p:cNvPicPr/>
          <p:nvPr/>
        </p:nvPicPr>
        <p:blipFill>
          <a:blip r:embed="rId1"/>
          <a:srcRect l="0" t="26480" r="0" b="26480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BE0ABE-246C-442B-91CF-B85D1D4F8C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00560" y="1553400"/>
            <a:ext cx="7556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بخاری، والور و ساير وسائل آتش زا در وسط اتاق و در مسير تردد خودداری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ي و ساير نوشيدني هاي داغ و هر نوع ظرف حاوي مايعات داغ را در وسط اتاق و محل رفت و آمد نگذ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ظرف غذا و كتري را روي بخاري و ديگر وسايل گرمايي در داخل اطاق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92440" y="2725920"/>
            <a:ext cx="2761200" cy="225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D17FA-EAAF-49B0-BE9C-C465FB3AC8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553400"/>
            <a:ext cx="1129104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2000"/>
          </a:bodyPr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ومينه را تميز نگه داريد و براي آن يك شبكه محافظ فلزي تهي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نظور جلوگيري از خطر نشت گاز، شومينه بايستي مجهز به ترموكوپل و شير جداگانه قطع و وصل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صب شومينه در اتاق هاي كوچك مي تواند خطرساز باشد. در اين گونه مواقع ترجيحاً از بخاري استفاده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بايد خارج از آن قرار داده شود تا در هنگام آتش سوزي احتمالي، بدون خطر بتوان گاز را قطع نم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را در پايان فصل زمستان بسته و خروجي آن را با درپوش مسدود نمايي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A0D91-F0D6-4EC3-A4A5-78244D234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آشپزخان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Placeholder 5" descr=""/>
          <p:cNvPicPr/>
          <p:nvPr/>
        </p:nvPicPr>
        <p:blipFill>
          <a:blip r:embed="rId2"/>
          <a:srcRect l="0" t="16883" r="0" b="16883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DFFCC-9CED-4994-8569-6649139C60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1960" y="1553400"/>
            <a:ext cx="113853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مواد آتش زاي جامد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پوشيدن لباس هاي قابل اشتعال و يا گشاد و آستين بلند در هنگام كار با اجاق گاز بپرهيز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هنگام آشپزي با فاصله مناسب از اجاق گاز بايست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راقب باشيد مو، آستين يا ساير قسمتهاي لباستان در تماس با شعله اجاق گاز قرار ن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EAC1A-2595-4D53-885C-875ABB010C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53400"/>
            <a:ext cx="1094292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اشياء داغ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برداشتن در غذا از دستگيره مناسب(غير پلاستيك) استفاد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هرگز از لبه آستين بجاي دستگيره براي برداشتن ظروف داغ استفاده ن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9BF57-436C-467B-91FA-6C74DA2498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933</TotalTime>
  <Application>LibreOffice/7.4.7.2$Linux_X86_64 LibreOffice_project/40$Build-2</Application>
  <AppVersion>15.0000</AppVersion>
  <Words>103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49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