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D572415-1543-480D-A6A5-19309A8A8E0D}" type="doc">
      <dgm:prSet loTypeId="urn:microsoft.com/office/officeart/2005/8/layout/funnel1" loCatId="process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en-SG"/>
        </a:p>
      </dgm:t>
    </dgm:pt>
    <dgm:pt modelId="{EEB7130B-CF67-43BD-9BA5-BC0810802DD3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اص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F3BA826-7A0A-448F-9100-4405E4B4DBCE}" type="par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F90F371E-53FE-4FD8-9F0A-4232E191DE95}" type="sib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249E04F8-C3B8-4E2D-9C49-A64FBE70EDED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تکمی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2E8FE2-BB01-4AAA-AF9A-1A3602D02704}" type="par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16BD8BB-7752-4672-8B8D-62DC0595A7DA}" type="sib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AA16E9-D2FE-4752-9BAB-366051CC16FD}">
      <dgm:prSet phldrT="[Text]" custT="1"/>
      <dgm:spPr/>
      <dgm:t>
        <a:bodyPr/>
        <a:lstStyle/>
        <a:p>
          <a:pPr marL="0" marR="0" lvl="0" indent="0" algn="ctr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fa-IR" sz="2800" b="1" smtClean="0">
              <a:solidFill>
                <a:schemeClr val="tx1"/>
              </a:solidFill>
              <a:cs typeface="B Nazanin" panose="00000400000000000000" pitchFamily="2" charset="-78"/>
            </a:rPr>
            <a:t>محتویات کیف</a:t>
          </a:r>
        </a:p>
        <a:p>
          <a:pPr lvl="0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01414706-E5F1-43FE-9F31-3E23016D458A}" type="sib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1B6D747-FCD4-44FB-A4BB-BD6045973B12}" type="par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5C3729F-71C6-4F62-A637-8A5DAEA5D86D}" type="pres">
      <dgm:prSet presAssocID="{1D572415-1543-480D-A6A5-19309A8A8E0D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1E2A69D0-05A0-4D3E-BBE5-C72CBFDE966E}" type="pres">
      <dgm:prSet presAssocID="{1D572415-1543-480D-A6A5-19309A8A8E0D}" presName="ellipse" presStyleLbl="trBgShp" presStyleIdx="0" presStyleCnt="1"/>
      <dgm:spPr/>
    </dgm:pt>
    <dgm:pt modelId="{AEBC9CB9-2A08-43B8-8BA5-E70143690A38}" type="pres">
      <dgm:prSet presAssocID="{1D572415-1543-480D-A6A5-19309A8A8E0D}" presName="arrow1" presStyleLbl="fgShp" presStyleIdx="0" presStyleCnt="1"/>
      <dgm:spPr/>
    </dgm:pt>
    <dgm:pt modelId="{034C8D08-D90F-4D1A-8A95-407915CEFCBF}" type="pres">
      <dgm:prSet presAssocID="{1D572415-1543-480D-A6A5-19309A8A8E0D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137A061-FA6F-4E60-BE8F-411187B36BD3}" type="pres">
      <dgm:prSet presAssocID="{249E04F8-C3B8-4E2D-9C49-A64FBE70EDED}" presName="item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7FF2573-11A8-4935-80BB-AD4FF4B0BB89}" type="pres">
      <dgm:prSet presAssocID="{B4AA16E9-D2FE-4752-9BAB-366051CC16FD}" presName="item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5C609B2-7576-4D50-8FCD-8F6F93E8E4B6}" type="pres">
      <dgm:prSet presAssocID="{1D572415-1543-480D-A6A5-19309A8A8E0D}" presName="funnel" presStyleLbl="trAlignAcc1" presStyleIdx="0" presStyleCnt="1"/>
      <dgm:spPr/>
    </dgm:pt>
  </dgm:ptLst>
  <dgm:cxnLst>
    <dgm:cxn modelId="{F0C7B147-98D7-42C5-BE27-F9416B717F41}" srcId="{1D572415-1543-480D-A6A5-19309A8A8E0D}" destId="{B4AA16E9-D2FE-4752-9BAB-366051CC16FD}" srcOrd="2" destOrd="0" parTransId="{81B6D747-FCD4-44FB-A4BB-BD6045973B12}" sibTransId="{01414706-E5F1-43FE-9F31-3E23016D458A}"/>
    <dgm:cxn modelId="{D0223927-3F97-4A25-8794-0C7E236C1398}" srcId="{1D572415-1543-480D-A6A5-19309A8A8E0D}" destId="{249E04F8-C3B8-4E2D-9C49-A64FBE70EDED}" srcOrd="1" destOrd="0" parTransId="{B42E8FE2-BB01-4AAA-AF9A-1A3602D02704}" sibTransId="{416BD8BB-7752-4672-8B8D-62DC0595A7DA}"/>
    <dgm:cxn modelId="{9DCB18EC-821A-4558-ADDA-03593FBBD574}" type="presOf" srcId="{1D572415-1543-480D-A6A5-19309A8A8E0D}" destId="{45C3729F-71C6-4F62-A637-8A5DAEA5D86D}" srcOrd="0" destOrd="0" presId="urn:microsoft.com/office/officeart/2005/8/layout/funnel1"/>
    <dgm:cxn modelId="{6EC79895-CF7E-40B7-BA0C-6D0385DCF650}" type="presOf" srcId="{B4AA16E9-D2FE-4752-9BAB-366051CC16FD}" destId="{034C8D08-D90F-4D1A-8A95-407915CEFCBF}" srcOrd="0" destOrd="0" presId="urn:microsoft.com/office/officeart/2005/8/layout/funnel1"/>
    <dgm:cxn modelId="{23AC0726-02A7-4BA8-9371-E403BB666839}" type="presOf" srcId="{EEB7130B-CF67-43BD-9BA5-BC0810802DD3}" destId="{07FF2573-11A8-4935-80BB-AD4FF4B0BB89}" srcOrd="0" destOrd="0" presId="urn:microsoft.com/office/officeart/2005/8/layout/funnel1"/>
    <dgm:cxn modelId="{BF98ADFB-39CD-4423-83C8-9B7884CF12A3}" srcId="{1D572415-1543-480D-A6A5-19309A8A8E0D}" destId="{EEB7130B-CF67-43BD-9BA5-BC0810802DD3}" srcOrd="0" destOrd="0" parTransId="{8F3BA826-7A0A-448F-9100-4405E4B4DBCE}" sibTransId="{F90F371E-53FE-4FD8-9F0A-4232E191DE95}"/>
    <dgm:cxn modelId="{1A620D64-5B3C-4D85-A24A-C5972BF2964F}" type="presOf" srcId="{249E04F8-C3B8-4E2D-9C49-A64FBE70EDED}" destId="{9137A061-FA6F-4E60-BE8F-411187B36BD3}" srcOrd="0" destOrd="0" presId="urn:microsoft.com/office/officeart/2005/8/layout/funnel1"/>
    <dgm:cxn modelId="{DD3C1308-7B4D-419B-927F-BA84364C83DB}" type="presParOf" srcId="{45C3729F-71C6-4F62-A637-8A5DAEA5D86D}" destId="{1E2A69D0-05A0-4D3E-BBE5-C72CBFDE966E}" srcOrd="0" destOrd="0" presId="urn:microsoft.com/office/officeart/2005/8/layout/funnel1"/>
    <dgm:cxn modelId="{ABB1F97B-E0E5-41DC-9214-0C55FB87BCD8}" type="presParOf" srcId="{45C3729F-71C6-4F62-A637-8A5DAEA5D86D}" destId="{AEBC9CB9-2A08-43B8-8BA5-E70143690A38}" srcOrd="1" destOrd="0" presId="urn:microsoft.com/office/officeart/2005/8/layout/funnel1"/>
    <dgm:cxn modelId="{2C537C87-B641-4389-B4F9-CC79C6D9CFD7}" type="presParOf" srcId="{45C3729F-71C6-4F62-A637-8A5DAEA5D86D}" destId="{034C8D08-D90F-4D1A-8A95-407915CEFCBF}" srcOrd="2" destOrd="0" presId="urn:microsoft.com/office/officeart/2005/8/layout/funnel1"/>
    <dgm:cxn modelId="{426ED9CF-4C0D-4CEB-A016-0FA0AF17BD1C}" type="presParOf" srcId="{45C3729F-71C6-4F62-A637-8A5DAEA5D86D}" destId="{9137A061-FA6F-4E60-BE8F-411187B36BD3}" srcOrd="3" destOrd="0" presId="urn:microsoft.com/office/officeart/2005/8/layout/funnel1"/>
    <dgm:cxn modelId="{613C91DF-5A86-4124-BF69-823911CC1923}" type="presParOf" srcId="{45C3729F-71C6-4F62-A637-8A5DAEA5D86D}" destId="{07FF2573-11A8-4935-80BB-AD4FF4B0BB89}" srcOrd="4" destOrd="0" presId="urn:microsoft.com/office/officeart/2005/8/layout/funnel1"/>
    <dgm:cxn modelId="{D823CE8B-D787-4EA9-8544-78FCD5989358}" type="presParOf" srcId="{45C3729F-71C6-4F62-A637-8A5DAEA5D86D}" destId="{85C609B2-7576-4D50-8FCD-8F6F93E8E4B6}" srcOrd="5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5405-45A3-4487-B4A4-A5AAFFDC39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843B-E0FE-4B1A-9A1C-5796E7FE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A7BA-6168-4735-92F7-F8B42BEE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3F75-F213-479D-955A-20409D2458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F954A-5F90-4F61-912F-579E7EF0BD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C5ED2-92E4-404E-B8D4-ED22699C68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F1D22-1B26-4D07-BDFD-BFCF05DF6B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7F90E-B476-4292-9CC6-2EDECD447D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5A6D3-851E-4377-9445-0F5BAEB864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4E8BC-04FE-4513-BFBF-9C57B84692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E68F4-E0DB-4DCD-A51C-F08D91D4AD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BDD37-7D49-4940-84B8-9F648527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9B225-833B-4684-AA35-B9A5B93973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841A6-3BDB-4C60-95C3-08AE80C896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A54B2-85B8-411D-9000-8F8C572201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C696F-4E97-4FCC-93D2-9D01B18520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113DB-1184-4ECB-B3D6-1C0F5F38D3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D11596-2A2F-4FE2-B326-D3CB67D7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3A19F5-E3D9-4697-A04D-552EBC3C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212E8-B2F9-40A9-B1D8-BE475D66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6970F-2637-403D-A767-869516AA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C2DC5B-12CC-454A-BE8F-707F996A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5156-0AE3-4AD1-A3A5-B010CBB0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D02E11-42D3-441A-94D2-294305D6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1E72D-3754-4F38-8C2E-CAA3A9CE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75E0A1-8CD7-49AD-B2BD-45C1A7BB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4B7AB7-D319-4CE3-A115-F4D30BD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B01BC-B701-4D10-A37A-F27F5877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397E0-7B9B-4701-A63C-D99ADA24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FC35F0-F8B6-4379-8808-1B11D0D2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5D02-5F2B-49D8-8A08-AA1A7669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8049-803D-466B-B849-21E682B6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3A6F-5A93-4293-B1E7-0B8EFACD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2643-BEE4-46A0-90A8-EFC0E221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D360-49FB-42EF-AA04-B254359B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867E-AB00-4B19-A604-84AD74E9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0176A2-255D-4A22-99C4-D5BFDB36B98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Footer Placeholder 4"/>
          <p:cNvSpPr/>
          <p:nvPr/>
        </p:nvSpPr>
        <p:spPr>
          <a:xfrm>
            <a:off x="3844440" y="6629400"/>
            <a:ext cx="4822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2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3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CABBE7-99E3-418A-9651-11F759070520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7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8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775129-5660-4D1B-950A-4E181AD8EEE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کیف نجات خانواد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0D18-5D23-4789-A3C9-F326F8E684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شرایط نگهداری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جای خشک و خنک: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1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ا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درج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زدیک مسیر خروج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خودرو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در پوشش ضد آب باش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ک کردن کیف در زمانهای منظم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Image result for Emergency family kit in car"/>
          <p:cNvPicPr/>
          <p:nvPr/>
        </p:nvPicPr>
        <p:blipFill>
          <a:blip r:embed="rId1"/>
          <a:stretch/>
        </p:blipFill>
        <p:spPr>
          <a:xfrm>
            <a:off x="335520" y="2205000"/>
            <a:ext cx="4874040" cy="325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344E3-5419-42C4-9083-3B3DC13A81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2303640" y="1766520"/>
            <a:ext cx="7670520" cy="431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3CA64-4E39-4963-8DE8-F24B7485AC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9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B89C1-6F8D-487E-8DAF-A956215115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نحوه تهیه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هیه چک لیستی از وسایل مورد نیاز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ماده کردن وسایل مطابق با لیست تهیه شد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سته بندی همه وسایل و جاگذاری در کیف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قابل شستشو و قابل حمل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rcRect l="-265" t="0" r="0" b="0"/>
          <a:stretch/>
        </p:blipFill>
        <p:spPr>
          <a:xfrm>
            <a:off x="638280" y="1805040"/>
            <a:ext cx="4196160" cy="418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D37E1-D1B4-452A-B4B8-2565A066AE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511523868"/>
              </p:ext>
            </p:extLst>
          </p:nvPr>
        </p:nvGraphicFramePr>
        <p:xfrm>
          <a:off x="1557360" y="223920"/>
          <a:ext cx="8966520" cy="6565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4FC31-428E-46FA-86E3-ABE646637D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3360" y="1196640"/>
            <a:ext cx="718488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ب برای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به ازای هر فرد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7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لیتر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غذا غیر فاسدشدنی  برای حداقل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: کنسرو، نان خشک و  بیسکویت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عبه کمکهای اولی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ادیو و باتر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686880" y="4094280"/>
            <a:ext cx="3198600" cy="222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686880" y="1535040"/>
            <a:ext cx="3198600" cy="24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855DA-18BC-4B6D-8A00-7868891C46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9520" y="1380600"/>
            <a:ext cx="11088720" cy="5091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8360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راغ قو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وت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لفن همراه با شارژر و باتری پشتیبان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سک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در مسافرتی یا مشمع و نوار چس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ب بازکن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قشه های محل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886680" y="1671120"/>
            <a:ext cx="3264120" cy="451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BEB93-2AC0-4875-A668-DF4A485635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 شخصی:صابون، ضد عفونی کننده دست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ی مورد نیاز بانوان، کودکان و سالمندان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داروهای بدون نسخه: مسکن، ضد تهوع و اسهال، داروهای ضداسید معده، پمادهای موضعی و ...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کیسه خواب یا پتو گرم برای هر شخص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25880" y="1759680"/>
            <a:ext cx="2854080" cy="22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24239-9C63-4019-8616-2FB55A1E2F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لباس متناسب با آب و هوا و کفشهای محکم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مهم: کپی بیمه نامه ها ، شناسنامه و سوابق حساب بانکی و ... 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پسول آتش نشانی کوچک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باب بازی و سرگرمی برای گودکان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تاب های مورد علاقه : ادعیه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1079280" y="3815280"/>
            <a:ext cx="2878560" cy="22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EFA3D-8CE9-4E22-9188-8E3AF8A059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ubtitle 1"/>
          <p:cNvSpPr/>
          <p:nvPr/>
        </p:nvSpPr>
        <p:spPr>
          <a:xfrm>
            <a:off x="2882880" y="1533960"/>
            <a:ext cx="907056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77" strike="noStrike">
                <a:solidFill>
                  <a:srgbClr val="000000"/>
                </a:solidFill>
                <a:latin typeface="Calibri"/>
                <a:cs typeface="B Nazanin"/>
              </a:rPr>
              <a:t>تجهیزات کنترل قند خو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سولی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رن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وم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وار تست ق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اگ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یخ خش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نبه الک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343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Image result for ‫ویال گلوکاگون‬‎"/>
          <p:cNvPicPr/>
          <p:nvPr/>
        </p:nvPicPr>
        <p:blipFill>
          <a:blip r:embed="rId1"/>
          <a:stretch/>
        </p:blipFill>
        <p:spPr>
          <a:xfrm>
            <a:off x="893520" y="4435560"/>
            <a:ext cx="3860280" cy="198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 result for ‫دستگاه گلوکومتر‬‎"/>
          <p:cNvPicPr/>
          <p:nvPr/>
        </p:nvPicPr>
        <p:blipFill>
          <a:blip r:embed="rId2"/>
          <a:stretch/>
        </p:blipFill>
        <p:spPr>
          <a:xfrm>
            <a:off x="1079280" y="1886760"/>
            <a:ext cx="2995920" cy="196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B085C-A2B3-4A45-B643-B179E50F39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580</TotalTime>
  <Application>LibreOffice/7.4.7.2$Linux_X86_64 LibreOffice_project/40$Build-2</Application>
  <AppVersion>15.0000</AppVersion>
  <Words>267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01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1</vt:r8>
  </property>
</Properties>
</file>