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65BA-53FB-4F2D-B2D4-B140FF7B14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ED09-33B6-4FE2-854D-1648F937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D5AF-2B3D-48A1-B7E7-D6D1A547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6ADC-E908-4DBE-A915-7E5BC825B1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A8459-16F1-47E7-A1EF-4A4F67E162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71BE7-517D-4B09-9310-A66EE822BF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6DE86-77E7-4BEC-A693-99618E162F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62F50-346F-46F2-A503-47A6B86BC0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FEA13-5D4A-4661-B9B3-5E556AA0F4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C3292-5EE6-4FD9-AE8A-C8F7E30BF5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7D2AC-4835-41B1-A967-56237612F3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62C8-EE80-43A2-B461-35C71C9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4E92B-3B90-4B78-9DFB-F2622C7ABA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6C18F-3362-439C-9FA9-1664993838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928AF-2BFB-45DE-B7B4-B942D00739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EC402-70FE-482F-9DFF-F3D5695026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52FAC-C528-4F26-B532-B09B68D344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E243-0D65-4404-8FAD-997136DC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DB7C-8C53-4A94-AD51-C844A28B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EA81-21B2-41FC-9CF3-1B32A30B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0526-6B07-4C94-9DBA-3C4071E7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73B1-AAF6-4C74-86B5-B91648F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7E61-9F5E-438D-B64B-05BB5E81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2B24-18A7-45A1-94C0-E674EF18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17D3-7F32-4964-92B0-1A8043B3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04ED-18F1-4104-A77C-6D0D0421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A499-ED08-4B85-9BFF-13591EE9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1967-B099-465E-B338-E9FB449C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E098-4117-4BB6-96EC-88451271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EC2B-3BAB-4A99-A023-8955AA9B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94F1-7390-4CAB-BC87-DC474D6D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A3FC-60DA-4AC8-B60A-2F7218F7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B5A4A-AC40-4FBA-B6B4-C396AC67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9B1F-148D-437B-BC59-D9AF514F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DA81-3D04-4162-940B-13B20BB3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02ECF-7160-4244-BA2D-E30C805E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4D37-D7CD-4B58-90DF-BF83050D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076E-E8C5-47D4-B3D8-B22EDFA3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01DB-1D57-4086-BD52-865C417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A2C76-9783-4096-9A94-8357A1CB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114C5-7DD4-42C1-96F4-6B8ECC45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CE4E-5D9E-4951-96B0-D36FF672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1698-4D05-4D0A-80BF-9723153F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354F-DAF8-4B86-9DA4-C23F5149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0B23-2DF5-4E75-8164-48565436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8578-1A63-4664-A7BF-9AEA0D07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5371-2646-409A-84CB-0AE353F5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E98A-6DD7-4F8C-BEF5-A2DCEAFB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A0CDB2-A0B4-4D2E-99BC-B9FD2EF20A77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F47030-AB39-4798-B7A4-CA3DDB247B7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BE2476-C34D-477F-8AB4-F8F9DF38DB5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10929960" y="0"/>
            <a:ext cx="1261800" cy="12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4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866AFC-024A-4301-94E2-B149C1A51F41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نحوه امدادخواهی در بلایا و حواد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0BC9-7C21-4307-9DD3-7F2B45F840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22" name="Content Placeholder 10" descr=""/>
          <p:cNvPicPr/>
          <p:nvPr/>
        </p:nvPicPr>
        <p:blipFill>
          <a:blip r:embed="rId2"/>
          <a:stretch/>
        </p:blipFill>
        <p:spPr>
          <a:xfrm>
            <a:off x="3089880" y="1554120"/>
            <a:ext cx="645156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FFA90-4617-4C89-A249-BB4C164CB5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48595-3C73-44F0-BF19-04F642398A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شماره تلفن های ضرور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9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SG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2"/>
          <a:srcRect l="0" t="20962" r="0" b="8516"/>
          <a:stretch/>
        </p:blipFill>
        <p:spPr>
          <a:xfrm>
            <a:off x="1809720" y="2589840"/>
            <a:ext cx="8572320" cy="202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023FC-5EAA-4630-B449-F1A9B527D2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3680" y="1553400"/>
            <a:ext cx="66780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یماری ها و حوادث اورژانسی به مواردی گفته می شوند که در صورت عدم ارائه به موقع اقدامات امدادی – درمانی، منجر به صدمات عضوی و جانی و نیز مشکلات روانی بیمار می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قط در موارد فوری و اورژانس می توانید با این شماره تلفن تماس بگیر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وجود خطر و صدمات عضوی و جانی و یا در خطر بودن سلامت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53360" y="1958400"/>
            <a:ext cx="4403520" cy="3447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10920960" y="4284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348C8-6966-4D85-806B-D4AAF2599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61000"/>
          </a:bodyPr>
          <a:p>
            <a:pPr marL="7848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قل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درد و سنگینی یا فشار قفسه سینه همراه با تهوع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ستفراغ، عرق س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نگی نفس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حساس سوزش در ناحیه پشت جناغ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بیماریکه سابقه بیماری قلبی دارد در صورت داشتن هریک از علائم فوق با اورژانس 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ماس بگی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98000"/>
          </a:bodyPr>
          <a:p>
            <a:pPr marL="12600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ت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تنگی 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خس خس سینه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کبودی لبها و بستر ناخنها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27440" indent="-127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3316-A6B6-44DD-8EE7-58C59BB904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823640" y="1271880"/>
            <a:ext cx="60955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تصادف با وسیله نقلی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قوط از بلن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وخت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مسمومیت های دارویی و خودکش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غرق شد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گزید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ضرب و جرح(ضربه به جمجمه و ستون فقرات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برق گرفت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ریزش آو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E2F7-4275-402D-A0E4-E8F3DABACA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5800" y="1553400"/>
            <a:ext cx="1131552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رایند امداد خواهی و امداد رسانی از تماس با شماره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شروع شده و در مرحله تحویل بیمار به اولین مرکز درمانی پایان می پذی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300200" y="3287160"/>
            <a:ext cx="4030200" cy="287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41EB2-C223-4073-B719-095636756A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2249640" y="1565280"/>
            <a:ext cx="7289280" cy="47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A7EFB-203F-475C-9A74-6050E1EF0C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3200" spc="-52" strike="noStrike">
                <a:solidFill>
                  <a:srgbClr val="b40000"/>
                </a:solidFill>
                <a:latin typeface="Calibri Light"/>
                <a:cs typeface="B Titr"/>
              </a:rPr>
              <a:t>در هنگام تماس با اورژانس 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 به چه مسائلی را باید رعایت کنیم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760" y="1553400"/>
            <a:ext cx="116510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حفظ خونسر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پاسخگویی به سوالات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در مورد سن، جنس و تعداد مصدومین ، سابقه ی بیماری، نحو ه ی بروز حادث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نشانی کامل و در صورت امکان نام یا شماره کوچه و خیابان 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اگر در مورد موقعیت مکانی خود مطمئن نیستید ، هراس به خود راه ندهید ،سعی کنید از افراد محلی واطرافیان موقیعت جغرافیایی محل را جویا شوید.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اطلاعات در خصوص خطرات موجود در محل حادثه مثل وجود مواد سمی ، آسیب سیمهای برق یا وضعیت آب و هوا (مه یا جاده یخ زد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بکار بستن توصیه های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تا رسیدن اکیپ امدا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شماره تلفن خودتان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8A583-725C-480D-99D7-DC5A467208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27</TotalTime>
  <Application>LibreOffice/7.4.7.2$Linux_X86_64 LibreOffice_project/40$Build-2</Application>
  <AppVersion>15.0000</AppVersion>
  <Words>381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1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0</vt:r8>
  </property>
</Properties>
</file>