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C8E1-C715-44E1-A896-5F701E3CDA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4A9D-5E4F-472C-8859-11ABB13B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CB57-3A03-4F2B-8190-F79C7094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B4BF-C86B-4581-B551-7DE829757D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3B966-6FB2-4D31-888C-4E7629C90A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E3435-10B3-4622-8AAE-18D9BEB0E4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8F73E-1AE5-4AA3-B8C3-2CB2EAD2A8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96078-6D6D-4C32-9F58-5405B07C66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ABCA7-7FC4-4A0F-B20D-F9DA103568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E4B3C-3049-4090-B07A-2FEB5E10BA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DDCB8-9BFC-4940-9CC4-935ADAD3D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B97A-C561-4F0C-9F30-E00F4FBF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C4204-A97E-4641-861E-96455B41B0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6F9B6-F5BE-4874-9001-CF2046F46F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A6FAC-ABA0-482E-ADCC-B025B525FF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2DABD-D0E9-4DF8-8BBF-E57C2D326E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AFA9E-C2B1-4A17-8C95-83063C1F77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1593-0F38-44AD-88FC-74D83FE0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2C4-D081-4F13-BEC3-C96E32CA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0A4C-9742-41F6-854C-46A3CABF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D13C-221A-48BB-AA75-C0E7A721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C36C-85CA-4EBD-A5CF-D46DC2D5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33F1-7F38-4A6B-8870-7F1C3988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10E4-DA66-4012-89EF-278521DD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B955-C46D-4F95-BA37-19DA4D68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CCA4-4852-483F-9865-D2EDE2F8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019D-3CE8-4DEB-892C-D6ADCF8D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1271-DAA6-4F00-AC78-C25D8485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113-5D93-41CA-9D0C-4AC47865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60D1-C915-48DB-B6DF-8671A198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206B1-7AAF-439F-99D1-3CD54F3C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6C286-7B73-47E8-8AD6-9ABDBAC0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8677F-E6E9-47BB-A438-D493A043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80EB-49A0-47B6-B5FB-AFB10720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7636C-ABC9-4AFC-BAB3-43FE41FA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1910A-4AEA-4070-9CFA-BF5C236F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46D15-1371-44E5-89C3-02D6347E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DE0B8-7B87-401B-B457-FBCC17EE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981E2-E7AF-4F44-80D1-E28CD4D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543CF-FB48-43C7-8F17-43C9EF91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7CF61-5B4F-47B4-B967-E87DE8FD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C5D30-7440-45D9-A11F-A7E803B6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6732A7-9EA0-4862-8932-A20F8667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9349-CDCE-4CDE-A3E6-13511A05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CCBE-3539-484D-A9D1-5EE7816A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6BF5-FAC3-4F0F-B14D-76A9FDC5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0A4D-0EA0-4D58-9AB5-15D9EDD3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18B4-6E9D-4BB5-B8C8-033FA0FD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7A8BB5-68CD-46CA-9111-4EE33E7A84F9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68D7A3-C5B6-4AF9-8DE6-47CA2546F5C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75C995-B50B-42D3-B4F2-2ABDE53651F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36591A-8368-45A6-9D82-79E591C53A2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E85A-4DCC-4970-8F74-35922DAE5D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E1507-9D3F-4087-8669-90E3ABD207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42960" y="1141920"/>
            <a:ext cx="107953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تومبيل‌ خود را در محلي‌ امن‌ و كاملاً بافاصله‌ نسبت‌ به‌ محل‌ حادثه‌ پارك‌ كن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چراغ‌هاي‌ خطر آن‌ را به‌ حالت‌ چشمك‌زن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یک‌باره از خودرو پیاده و  وارد جاده نشوی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عرض خیابان ند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شب‌، لباسي‌ بپوشيد يا چيزي‌ حمل‌ كنيد كه‌ روشن‌ يا منعكس‌كننده‌ نور باشد یا از چراغ‌قوه‌ استفاده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1CA4-AF09-48C8-A370-7FBB68396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4400" y="1525680"/>
            <a:ext cx="107366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حداقل‌ به‌ فاصله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۴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تر از محل‌ حادثه‌ در هر دو طرف‌ آن‌، مثلث‌ يا چراغ‌ هشداردهنده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لافاصله با مرکز فوریت پلیس و اورژان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تماس بگی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تماس با اورژانس تعداد مصدومان را اعلام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سرعت‌ تمام‌ مصدومان‌ را ارزيابي‌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گر بيش‌ از يك‌ مصدوم‌ وجود دارد، ابتدا به‌ آن‌هایی‌ كه‌ ممكن‌ است‌ آسيب‌هاي‌ تهديدكننده‌ حيات‌ (مثل‌ سوختگي‌ يا زخم‌ شديد) داشته‌ باشند، رسيدگي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5880" y="2600280"/>
            <a:ext cx="323640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FBE5-B784-4F84-9CFC-E54E5B2485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00" y="1973880"/>
            <a:ext cx="10972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مصدوم‌ را حركت‌ ندهيد مگر وقتی‌که‌ قطعاً ضرورت‌ داشته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صورت‌ امكان‌، مصدومان‌ را در همان‌ وضعيتي‌ كه‌ با آن‌ها مواجه‌ شديد، درمان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تنها درصورتی‌که‌ مصدومي‌ درخطر باشد يا به‌منظور ارائه‌ درمان‌ نجات‌بخش‌، مي‌توانيد وي‌ را جابه‌جا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17BF-9B10-4EA7-B53D-5C0ECA5273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32040" y="1696680"/>
            <a:ext cx="107010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در مورد هر مصدومي‌ كه‌ در حوادث‌ رانندگي‌ آسیب‌دیده‌ است‌، هميشه‌ فرض‌ كنيد كه‌ آسيب‌ گردن‌ (نخاع‌) وجود دارد و سر مصدوم‌ را تا رسيدن‌ نيروهاي‌ كمكي‌، با دست‌ نگه‌د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محل‌ را به‌طور كامل‌ جستجو كنيد تا از مصدوماني‌ كه‌ به‌ مناطق‌ دورتر پرتاب‌شده‌اند يا از آن‌هایی‌ كه‌ به‌ خاطر منگي‌، بي‌هدف‌ حركت‌ كرده‌ و از محل‌ دور شده‌اند، غفلت‌ نكرده‌ باش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3240-459A-490D-A5CF-22A5EEE0F6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2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rPr>
              <a:t>کارگاه آمادگی در برابر زلزله ( فرد – خانواده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SG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DC3D3-FC0C-47DF-AA17-666CC08003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10" name="Content Placeholder 7" descr=""/>
          <p:cNvPicPr/>
          <p:nvPr/>
        </p:nvPicPr>
        <p:blipFill>
          <a:blip r:embed="rId2"/>
          <a:stretch/>
        </p:blipFill>
        <p:spPr>
          <a:xfrm>
            <a:off x="2978640" y="1772280"/>
            <a:ext cx="647352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585C4-A10E-4614-9508-63406B684F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56</TotalTime>
  <Application>LibreOffice/7.4.7.2$Linux_X86_64 LibreOffice_project/40$Build-2</Application>
  <AppVersion>15.0000</AppVersion>
  <Words>46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16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